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5F55-A7C1-49B1-B1B4-37920FFD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016-10DE-4617-9DF4-3C03C12D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00C-C66E-4620-910C-C6E30512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675-FF01-4495-A911-36E2D8AB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EBD3-6FDA-47FC-BC2C-D46C9C06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8776-990F-445B-ADEF-2E07C7AA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903-5D84-4498-A0DE-88AD691D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8253-6136-4056-B33B-DE8D6368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54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DD5-762C-492B-9A81-BB9CE9D8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B8F-CD95-4D6B-ACDE-F62D6A4D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804C-1CBD-4977-8555-A28D0416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1C7C-9AE5-44D2-899D-99260858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1044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910440"/>
            <a:ext cx="239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910440"/>
            <a:ext cx="176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6AF3-C0B9-44BB-B440-FB0BDAB05F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野菜カレー_A4.jpg"/>
          <p:cNvPicPr/>
          <p:nvPr/>
        </p:nvPicPr>
        <p:blipFill>
          <a:blip r:embed="rId1"/>
          <a:stretch/>
        </p:blipFill>
        <p:spPr>
          <a:xfrm>
            <a:off x="0" y="0"/>
            <a:ext cx="7561440" cy="106934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2"/>
          <p:cNvSpPr/>
          <p:nvPr/>
        </p:nvSpPr>
        <p:spPr>
          <a:xfrm>
            <a:off x="1440" y="0"/>
            <a:ext cx="7560000" cy="390600"/>
          </a:xfrm>
          <a:prstGeom prst="rect">
            <a:avLst/>
          </a:prstGeom>
          <a:solidFill>
            <a:srgbClr val="b41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3"/>
          <p:cNvSpPr/>
          <p:nvPr/>
        </p:nvSpPr>
        <p:spPr>
          <a:xfrm>
            <a:off x="1440" y="10302840"/>
            <a:ext cx="7560000" cy="390600"/>
          </a:xfrm>
          <a:prstGeom prst="rect">
            <a:avLst/>
          </a:prstGeom>
          <a:solidFill>
            <a:srgbClr val="b41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グループ化 6"/>
          <p:cNvGrpSpPr/>
          <p:nvPr/>
        </p:nvGrpSpPr>
        <p:grpSpPr>
          <a:xfrm>
            <a:off x="709560" y="885960"/>
            <a:ext cx="6372360" cy="1431720"/>
            <a:chOff x="709560" y="885960"/>
            <a:chExt cx="6372360" cy="1431720"/>
          </a:xfrm>
        </p:grpSpPr>
        <p:sp>
          <p:nvSpPr>
            <p:cNvPr id="45" name="Freeform 64"/>
            <p:cNvSpPr/>
            <p:nvPr/>
          </p:nvSpPr>
          <p:spPr>
            <a:xfrm>
              <a:off x="709560" y="885960"/>
              <a:ext cx="3861000" cy="1431720"/>
            </a:xfrm>
            <a:custGeom>
              <a:avLst/>
              <a:gdLst>
                <a:gd name="textAreaLeft" fmla="*/ 0 w 3861000"/>
                <a:gd name="textAreaRight" fmla="*/ 3861360 w 3861000"/>
                <a:gd name="textAreaTop" fmla="*/ 0 h 1431720"/>
                <a:gd name="textAreaBottom" fmla="*/ 1432080 h 1431720"/>
              </a:gdLst>
              <a:ahLst/>
              <a:rect l="textAreaLeft" t="textAreaTop" r="textAreaRight" b="textAreaBottom"/>
              <a:pathLst>
                <a:path w="2432" h="902">
                  <a:moveTo>
                    <a:pt x="2342" y="140"/>
                  </a:moveTo>
                  <a:lnTo>
                    <a:pt x="2194" y="140"/>
                  </a:lnTo>
                  <a:lnTo>
                    <a:pt x="2194" y="140"/>
                  </a:lnTo>
                  <a:lnTo>
                    <a:pt x="2196" y="124"/>
                  </a:lnTo>
                  <a:lnTo>
                    <a:pt x="2196" y="124"/>
                  </a:lnTo>
                  <a:lnTo>
                    <a:pt x="2194" y="110"/>
                  </a:lnTo>
                  <a:lnTo>
                    <a:pt x="2192" y="94"/>
                  </a:lnTo>
                  <a:lnTo>
                    <a:pt x="2184" y="78"/>
                  </a:lnTo>
                  <a:lnTo>
                    <a:pt x="2174" y="62"/>
                  </a:lnTo>
                  <a:lnTo>
                    <a:pt x="2160" y="48"/>
                  </a:lnTo>
                  <a:lnTo>
                    <a:pt x="2152" y="40"/>
                  </a:lnTo>
                  <a:lnTo>
                    <a:pt x="2142" y="34"/>
                  </a:lnTo>
                  <a:lnTo>
                    <a:pt x="2132" y="30"/>
                  </a:lnTo>
                  <a:lnTo>
                    <a:pt x="2120" y="26"/>
                  </a:lnTo>
                  <a:lnTo>
                    <a:pt x="2106" y="24"/>
                  </a:lnTo>
                  <a:lnTo>
                    <a:pt x="2092" y="22"/>
                  </a:lnTo>
                  <a:lnTo>
                    <a:pt x="2092" y="22"/>
                  </a:lnTo>
                  <a:lnTo>
                    <a:pt x="2090" y="22"/>
                  </a:lnTo>
                  <a:lnTo>
                    <a:pt x="1938" y="12"/>
                  </a:lnTo>
                  <a:lnTo>
                    <a:pt x="1938" y="12"/>
                  </a:lnTo>
                  <a:lnTo>
                    <a:pt x="1918" y="14"/>
                  </a:lnTo>
                  <a:lnTo>
                    <a:pt x="1898" y="20"/>
                  </a:lnTo>
                  <a:lnTo>
                    <a:pt x="1882" y="28"/>
                  </a:lnTo>
                  <a:lnTo>
                    <a:pt x="1866" y="40"/>
                  </a:lnTo>
                  <a:lnTo>
                    <a:pt x="1866" y="40"/>
                  </a:lnTo>
                  <a:lnTo>
                    <a:pt x="1854" y="56"/>
                  </a:lnTo>
                  <a:lnTo>
                    <a:pt x="1846" y="74"/>
                  </a:lnTo>
                  <a:lnTo>
                    <a:pt x="1842" y="94"/>
                  </a:lnTo>
                  <a:lnTo>
                    <a:pt x="1842" y="112"/>
                  </a:lnTo>
                  <a:lnTo>
                    <a:pt x="1842" y="112"/>
                  </a:lnTo>
                  <a:lnTo>
                    <a:pt x="1844" y="140"/>
                  </a:lnTo>
                  <a:lnTo>
                    <a:pt x="1704" y="140"/>
                  </a:lnTo>
                  <a:lnTo>
                    <a:pt x="1704" y="140"/>
                  </a:lnTo>
                  <a:lnTo>
                    <a:pt x="1696" y="140"/>
                  </a:lnTo>
                  <a:lnTo>
                    <a:pt x="1696" y="134"/>
                  </a:lnTo>
                  <a:lnTo>
                    <a:pt x="1696" y="134"/>
                  </a:lnTo>
                  <a:lnTo>
                    <a:pt x="1694" y="116"/>
                  </a:lnTo>
                  <a:lnTo>
                    <a:pt x="1688" y="100"/>
                  </a:lnTo>
                  <a:lnTo>
                    <a:pt x="1680" y="84"/>
                  </a:lnTo>
                  <a:lnTo>
                    <a:pt x="1670" y="70"/>
                  </a:lnTo>
                  <a:lnTo>
                    <a:pt x="1656" y="60"/>
                  </a:lnTo>
                  <a:lnTo>
                    <a:pt x="1640" y="52"/>
                  </a:lnTo>
                  <a:lnTo>
                    <a:pt x="1624" y="46"/>
                  </a:lnTo>
                  <a:lnTo>
                    <a:pt x="1606" y="44"/>
                  </a:lnTo>
                  <a:lnTo>
                    <a:pt x="1520" y="44"/>
                  </a:lnTo>
                  <a:lnTo>
                    <a:pt x="1520" y="44"/>
                  </a:lnTo>
                  <a:lnTo>
                    <a:pt x="1512" y="36"/>
                  </a:lnTo>
                  <a:lnTo>
                    <a:pt x="1504" y="28"/>
                  </a:lnTo>
                  <a:lnTo>
                    <a:pt x="1494" y="20"/>
                  </a:lnTo>
                  <a:lnTo>
                    <a:pt x="1484" y="14"/>
                  </a:lnTo>
                  <a:lnTo>
                    <a:pt x="1474" y="10"/>
                  </a:lnTo>
                  <a:lnTo>
                    <a:pt x="1460" y="6"/>
                  </a:lnTo>
                  <a:lnTo>
                    <a:pt x="1448" y="4"/>
                  </a:lnTo>
                  <a:lnTo>
                    <a:pt x="1432" y="4"/>
                  </a:lnTo>
                  <a:lnTo>
                    <a:pt x="1304" y="0"/>
                  </a:lnTo>
                  <a:lnTo>
                    <a:pt x="1304" y="0"/>
                  </a:lnTo>
                  <a:lnTo>
                    <a:pt x="1290" y="0"/>
                  </a:lnTo>
                  <a:lnTo>
                    <a:pt x="1274" y="4"/>
                  </a:lnTo>
                  <a:lnTo>
                    <a:pt x="1262" y="8"/>
                  </a:lnTo>
                  <a:lnTo>
                    <a:pt x="1250" y="16"/>
                  </a:lnTo>
                  <a:lnTo>
                    <a:pt x="1250" y="16"/>
                  </a:lnTo>
                  <a:lnTo>
                    <a:pt x="1238" y="12"/>
                  </a:lnTo>
                  <a:lnTo>
                    <a:pt x="1226" y="8"/>
                  </a:lnTo>
                  <a:lnTo>
                    <a:pt x="1214" y="6"/>
                  </a:lnTo>
                  <a:lnTo>
                    <a:pt x="1202" y="4"/>
                  </a:lnTo>
                  <a:lnTo>
                    <a:pt x="1068" y="2"/>
                  </a:lnTo>
                  <a:lnTo>
                    <a:pt x="1068" y="2"/>
                  </a:lnTo>
                  <a:lnTo>
                    <a:pt x="1050" y="2"/>
                  </a:lnTo>
                  <a:lnTo>
                    <a:pt x="1032" y="8"/>
                  </a:lnTo>
                  <a:lnTo>
                    <a:pt x="1016" y="16"/>
                  </a:lnTo>
                  <a:lnTo>
                    <a:pt x="1002" y="26"/>
                  </a:lnTo>
                  <a:lnTo>
                    <a:pt x="1002" y="26"/>
                  </a:lnTo>
                  <a:lnTo>
                    <a:pt x="994" y="34"/>
                  </a:lnTo>
                  <a:lnTo>
                    <a:pt x="988" y="44"/>
                  </a:lnTo>
                  <a:lnTo>
                    <a:pt x="886" y="44"/>
                  </a:lnTo>
                  <a:lnTo>
                    <a:pt x="886" y="44"/>
                  </a:lnTo>
                  <a:lnTo>
                    <a:pt x="870" y="46"/>
                  </a:lnTo>
                  <a:lnTo>
                    <a:pt x="854" y="50"/>
                  </a:lnTo>
                  <a:lnTo>
                    <a:pt x="848" y="44"/>
                  </a:lnTo>
                  <a:lnTo>
                    <a:pt x="848" y="44"/>
                  </a:lnTo>
                  <a:lnTo>
                    <a:pt x="834" y="30"/>
                  </a:lnTo>
                  <a:lnTo>
                    <a:pt x="818" y="22"/>
                  </a:lnTo>
                  <a:lnTo>
                    <a:pt x="800" y="16"/>
                  </a:lnTo>
                  <a:lnTo>
                    <a:pt x="782" y="14"/>
                  </a:lnTo>
                  <a:lnTo>
                    <a:pt x="484" y="14"/>
                  </a:lnTo>
                  <a:lnTo>
                    <a:pt x="484" y="14"/>
                  </a:lnTo>
                  <a:lnTo>
                    <a:pt x="470" y="16"/>
                  </a:lnTo>
                  <a:lnTo>
                    <a:pt x="470" y="16"/>
                  </a:lnTo>
                  <a:lnTo>
                    <a:pt x="456" y="14"/>
                  </a:lnTo>
                  <a:lnTo>
                    <a:pt x="118" y="14"/>
                  </a:lnTo>
                  <a:lnTo>
                    <a:pt x="118" y="14"/>
                  </a:lnTo>
                  <a:lnTo>
                    <a:pt x="100" y="16"/>
                  </a:lnTo>
                  <a:lnTo>
                    <a:pt x="82" y="22"/>
                  </a:lnTo>
                  <a:lnTo>
                    <a:pt x="66" y="30"/>
                  </a:lnTo>
                  <a:lnTo>
                    <a:pt x="54" y="40"/>
                  </a:lnTo>
                  <a:lnTo>
                    <a:pt x="42" y="54"/>
                  </a:lnTo>
                  <a:lnTo>
                    <a:pt x="34" y="70"/>
                  </a:lnTo>
                  <a:lnTo>
                    <a:pt x="28" y="86"/>
                  </a:lnTo>
                  <a:lnTo>
                    <a:pt x="26" y="104"/>
                  </a:lnTo>
                  <a:lnTo>
                    <a:pt x="26" y="462"/>
                  </a:lnTo>
                  <a:lnTo>
                    <a:pt x="26" y="462"/>
                  </a:lnTo>
                  <a:lnTo>
                    <a:pt x="20" y="482"/>
                  </a:lnTo>
                  <a:lnTo>
                    <a:pt x="18" y="492"/>
                  </a:lnTo>
                  <a:lnTo>
                    <a:pt x="18" y="502"/>
                  </a:lnTo>
                  <a:lnTo>
                    <a:pt x="18" y="604"/>
                  </a:lnTo>
                  <a:lnTo>
                    <a:pt x="18" y="604"/>
                  </a:lnTo>
                  <a:lnTo>
                    <a:pt x="18" y="620"/>
                  </a:lnTo>
                  <a:lnTo>
                    <a:pt x="18" y="620"/>
                  </a:lnTo>
                  <a:lnTo>
                    <a:pt x="10" y="636"/>
                  </a:lnTo>
                  <a:lnTo>
                    <a:pt x="2" y="652"/>
                  </a:lnTo>
                  <a:lnTo>
                    <a:pt x="0" y="672"/>
                  </a:lnTo>
                  <a:lnTo>
                    <a:pt x="2" y="690"/>
                  </a:lnTo>
                  <a:lnTo>
                    <a:pt x="22" y="810"/>
                  </a:lnTo>
                  <a:lnTo>
                    <a:pt x="22" y="810"/>
                  </a:lnTo>
                  <a:lnTo>
                    <a:pt x="24" y="812"/>
                  </a:lnTo>
                  <a:lnTo>
                    <a:pt x="24" y="812"/>
                  </a:lnTo>
                  <a:lnTo>
                    <a:pt x="28" y="832"/>
                  </a:lnTo>
                  <a:lnTo>
                    <a:pt x="36" y="848"/>
                  </a:lnTo>
                  <a:lnTo>
                    <a:pt x="46" y="862"/>
                  </a:lnTo>
                  <a:lnTo>
                    <a:pt x="58" y="874"/>
                  </a:lnTo>
                  <a:lnTo>
                    <a:pt x="74" y="884"/>
                  </a:lnTo>
                  <a:lnTo>
                    <a:pt x="88" y="892"/>
                  </a:lnTo>
                  <a:lnTo>
                    <a:pt x="106" y="896"/>
                  </a:lnTo>
                  <a:lnTo>
                    <a:pt x="124" y="898"/>
                  </a:lnTo>
                  <a:lnTo>
                    <a:pt x="124" y="898"/>
                  </a:lnTo>
                  <a:lnTo>
                    <a:pt x="134" y="898"/>
                  </a:lnTo>
                  <a:lnTo>
                    <a:pt x="152" y="894"/>
                  </a:lnTo>
                  <a:lnTo>
                    <a:pt x="162" y="890"/>
                  </a:lnTo>
                  <a:lnTo>
                    <a:pt x="172" y="886"/>
                  </a:lnTo>
                  <a:lnTo>
                    <a:pt x="184" y="880"/>
                  </a:lnTo>
                  <a:lnTo>
                    <a:pt x="194" y="872"/>
                  </a:lnTo>
                  <a:lnTo>
                    <a:pt x="194" y="872"/>
                  </a:lnTo>
                  <a:lnTo>
                    <a:pt x="304" y="854"/>
                  </a:lnTo>
                  <a:lnTo>
                    <a:pt x="422" y="834"/>
                  </a:lnTo>
                  <a:lnTo>
                    <a:pt x="422" y="834"/>
                  </a:lnTo>
                  <a:lnTo>
                    <a:pt x="426" y="846"/>
                  </a:lnTo>
                  <a:lnTo>
                    <a:pt x="434" y="858"/>
                  </a:lnTo>
                  <a:lnTo>
                    <a:pt x="442" y="870"/>
                  </a:lnTo>
                  <a:lnTo>
                    <a:pt x="450" y="878"/>
                  </a:lnTo>
                  <a:lnTo>
                    <a:pt x="462" y="886"/>
                  </a:lnTo>
                  <a:lnTo>
                    <a:pt x="474" y="892"/>
                  </a:lnTo>
                  <a:lnTo>
                    <a:pt x="488" y="898"/>
                  </a:lnTo>
                  <a:lnTo>
                    <a:pt x="502" y="900"/>
                  </a:lnTo>
                  <a:lnTo>
                    <a:pt x="504" y="900"/>
                  </a:lnTo>
                  <a:lnTo>
                    <a:pt x="504" y="900"/>
                  </a:lnTo>
                  <a:lnTo>
                    <a:pt x="534" y="902"/>
                  </a:lnTo>
                  <a:lnTo>
                    <a:pt x="534" y="902"/>
                  </a:lnTo>
                  <a:lnTo>
                    <a:pt x="570" y="900"/>
                  </a:lnTo>
                  <a:lnTo>
                    <a:pt x="602" y="898"/>
                  </a:lnTo>
                  <a:lnTo>
                    <a:pt x="630" y="892"/>
                  </a:lnTo>
                  <a:lnTo>
                    <a:pt x="654" y="884"/>
                  </a:lnTo>
                  <a:lnTo>
                    <a:pt x="678" y="876"/>
                  </a:lnTo>
                  <a:lnTo>
                    <a:pt x="696" y="864"/>
                  </a:lnTo>
                  <a:lnTo>
                    <a:pt x="714" y="852"/>
                  </a:lnTo>
                  <a:lnTo>
                    <a:pt x="728" y="840"/>
                  </a:lnTo>
                  <a:lnTo>
                    <a:pt x="740" y="826"/>
                  </a:lnTo>
                  <a:lnTo>
                    <a:pt x="750" y="812"/>
                  </a:lnTo>
                  <a:lnTo>
                    <a:pt x="758" y="796"/>
                  </a:lnTo>
                  <a:lnTo>
                    <a:pt x="764" y="780"/>
                  </a:lnTo>
                  <a:lnTo>
                    <a:pt x="768" y="764"/>
                  </a:lnTo>
                  <a:lnTo>
                    <a:pt x="770" y="746"/>
                  </a:lnTo>
                  <a:lnTo>
                    <a:pt x="774" y="714"/>
                  </a:lnTo>
                  <a:lnTo>
                    <a:pt x="774" y="700"/>
                  </a:lnTo>
                  <a:lnTo>
                    <a:pt x="774" y="700"/>
                  </a:lnTo>
                  <a:lnTo>
                    <a:pt x="776" y="700"/>
                  </a:lnTo>
                  <a:lnTo>
                    <a:pt x="776" y="700"/>
                  </a:lnTo>
                  <a:lnTo>
                    <a:pt x="776" y="720"/>
                  </a:lnTo>
                  <a:lnTo>
                    <a:pt x="782" y="740"/>
                  </a:lnTo>
                  <a:lnTo>
                    <a:pt x="790" y="758"/>
                  </a:lnTo>
                  <a:lnTo>
                    <a:pt x="798" y="766"/>
                  </a:lnTo>
                  <a:lnTo>
                    <a:pt x="804" y="774"/>
                  </a:lnTo>
                  <a:lnTo>
                    <a:pt x="804" y="774"/>
                  </a:lnTo>
                  <a:lnTo>
                    <a:pt x="824" y="794"/>
                  </a:lnTo>
                  <a:lnTo>
                    <a:pt x="842" y="814"/>
                  </a:lnTo>
                  <a:lnTo>
                    <a:pt x="860" y="836"/>
                  </a:lnTo>
                  <a:lnTo>
                    <a:pt x="874" y="858"/>
                  </a:lnTo>
                  <a:lnTo>
                    <a:pt x="874" y="858"/>
                  </a:lnTo>
                  <a:lnTo>
                    <a:pt x="884" y="870"/>
                  </a:lnTo>
                  <a:lnTo>
                    <a:pt x="896" y="882"/>
                  </a:lnTo>
                  <a:lnTo>
                    <a:pt x="908" y="890"/>
                  </a:lnTo>
                  <a:lnTo>
                    <a:pt x="922" y="896"/>
                  </a:lnTo>
                  <a:lnTo>
                    <a:pt x="938" y="900"/>
                  </a:lnTo>
                  <a:lnTo>
                    <a:pt x="952" y="900"/>
                  </a:lnTo>
                  <a:lnTo>
                    <a:pt x="968" y="900"/>
                  </a:lnTo>
                  <a:lnTo>
                    <a:pt x="984" y="896"/>
                  </a:lnTo>
                  <a:lnTo>
                    <a:pt x="984" y="896"/>
                  </a:lnTo>
                  <a:lnTo>
                    <a:pt x="1028" y="876"/>
                  </a:lnTo>
                  <a:lnTo>
                    <a:pt x="1060" y="860"/>
                  </a:lnTo>
                  <a:lnTo>
                    <a:pt x="1096" y="840"/>
                  </a:lnTo>
                  <a:lnTo>
                    <a:pt x="1096" y="840"/>
                  </a:lnTo>
                  <a:lnTo>
                    <a:pt x="1102" y="852"/>
                  </a:lnTo>
                  <a:lnTo>
                    <a:pt x="1110" y="864"/>
                  </a:lnTo>
                  <a:lnTo>
                    <a:pt x="1118" y="874"/>
                  </a:lnTo>
                  <a:lnTo>
                    <a:pt x="1130" y="884"/>
                  </a:lnTo>
                  <a:lnTo>
                    <a:pt x="1142" y="890"/>
                  </a:lnTo>
                  <a:lnTo>
                    <a:pt x="1154" y="896"/>
                  </a:lnTo>
                  <a:lnTo>
                    <a:pt x="1168" y="900"/>
                  </a:lnTo>
                  <a:lnTo>
                    <a:pt x="1182" y="900"/>
                  </a:lnTo>
                  <a:lnTo>
                    <a:pt x="1308" y="900"/>
                  </a:lnTo>
                  <a:lnTo>
                    <a:pt x="1308" y="900"/>
                  </a:lnTo>
                  <a:lnTo>
                    <a:pt x="1324" y="900"/>
                  </a:lnTo>
                  <a:lnTo>
                    <a:pt x="1338" y="896"/>
                  </a:lnTo>
                  <a:lnTo>
                    <a:pt x="1350" y="890"/>
                  </a:lnTo>
                  <a:lnTo>
                    <a:pt x="1362" y="884"/>
                  </a:lnTo>
                  <a:lnTo>
                    <a:pt x="1372" y="874"/>
                  </a:lnTo>
                  <a:lnTo>
                    <a:pt x="1382" y="864"/>
                  </a:lnTo>
                  <a:lnTo>
                    <a:pt x="1388" y="852"/>
                  </a:lnTo>
                  <a:lnTo>
                    <a:pt x="1394" y="840"/>
                  </a:lnTo>
                  <a:lnTo>
                    <a:pt x="1394" y="840"/>
                  </a:lnTo>
                  <a:lnTo>
                    <a:pt x="1440" y="866"/>
                  </a:lnTo>
                  <a:lnTo>
                    <a:pt x="1478" y="882"/>
                  </a:lnTo>
                  <a:lnTo>
                    <a:pt x="1514" y="896"/>
                  </a:lnTo>
                  <a:lnTo>
                    <a:pt x="1514" y="896"/>
                  </a:lnTo>
                  <a:lnTo>
                    <a:pt x="1526" y="900"/>
                  </a:lnTo>
                  <a:lnTo>
                    <a:pt x="1540" y="900"/>
                  </a:lnTo>
                  <a:lnTo>
                    <a:pt x="1540" y="900"/>
                  </a:lnTo>
                  <a:lnTo>
                    <a:pt x="1552" y="900"/>
                  </a:lnTo>
                  <a:lnTo>
                    <a:pt x="1564" y="898"/>
                  </a:lnTo>
                  <a:lnTo>
                    <a:pt x="1576" y="894"/>
                  </a:lnTo>
                  <a:lnTo>
                    <a:pt x="1586" y="888"/>
                  </a:lnTo>
                  <a:lnTo>
                    <a:pt x="1596" y="882"/>
                  </a:lnTo>
                  <a:lnTo>
                    <a:pt x="1606" y="874"/>
                  </a:lnTo>
                  <a:lnTo>
                    <a:pt x="1614" y="864"/>
                  </a:lnTo>
                  <a:lnTo>
                    <a:pt x="1620" y="854"/>
                  </a:lnTo>
                  <a:lnTo>
                    <a:pt x="1620" y="854"/>
                  </a:lnTo>
                  <a:lnTo>
                    <a:pt x="1638" y="826"/>
                  </a:lnTo>
                  <a:lnTo>
                    <a:pt x="1660" y="800"/>
                  </a:lnTo>
                  <a:lnTo>
                    <a:pt x="1660" y="800"/>
                  </a:lnTo>
                  <a:lnTo>
                    <a:pt x="1686" y="826"/>
                  </a:lnTo>
                  <a:lnTo>
                    <a:pt x="1706" y="852"/>
                  </a:lnTo>
                  <a:lnTo>
                    <a:pt x="1706" y="852"/>
                  </a:lnTo>
                  <a:lnTo>
                    <a:pt x="1714" y="860"/>
                  </a:lnTo>
                  <a:lnTo>
                    <a:pt x="1722" y="866"/>
                  </a:lnTo>
                  <a:lnTo>
                    <a:pt x="1730" y="872"/>
                  </a:lnTo>
                  <a:lnTo>
                    <a:pt x="1740" y="878"/>
                  </a:lnTo>
                  <a:lnTo>
                    <a:pt x="1758" y="884"/>
                  </a:lnTo>
                  <a:lnTo>
                    <a:pt x="1780" y="886"/>
                  </a:lnTo>
                  <a:lnTo>
                    <a:pt x="1780" y="886"/>
                  </a:lnTo>
                  <a:lnTo>
                    <a:pt x="1800" y="884"/>
                  </a:lnTo>
                  <a:lnTo>
                    <a:pt x="1810" y="882"/>
                  </a:lnTo>
                  <a:lnTo>
                    <a:pt x="1820" y="878"/>
                  </a:lnTo>
                  <a:lnTo>
                    <a:pt x="1820" y="878"/>
                  </a:lnTo>
                  <a:lnTo>
                    <a:pt x="1860" y="856"/>
                  </a:lnTo>
                  <a:lnTo>
                    <a:pt x="1898" y="830"/>
                  </a:lnTo>
                  <a:lnTo>
                    <a:pt x="1936" y="804"/>
                  </a:lnTo>
                  <a:lnTo>
                    <a:pt x="1970" y="774"/>
                  </a:lnTo>
                  <a:lnTo>
                    <a:pt x="1970" y="774"/>
                  </a:lnTo>
                  <a:lnTo>
                    <a:pt x="1972" y="798"/>
                  </a:lnTo>
                  <a:lnTo>
                    <a:pt x="1972" y="798"/>
                  </a:lnTo>
                  <a:lnTo>
                    <a:pt x="1976" y="816"/>
                  </a:lnTo>
                  <a:lnTo>
                    <a:pt x="1982" y="830"/>
                  </a:lnTo>
                  <a:lnTo>
                    <a:pt x="1990" y="844"/>
                  </a:lnTo>
                  <a:lnTo>
                    <a:pt x="2002" y="856"/>
                  </a:lnTo>
                  <a:lnTo>
                    <a:pt x="2014" y="866"/>
                  </a:lnTo>
                  <a:lnTo>
                    <a:pt x="2028" y="874"/>
                  </a:lnTo>
                  <a:lnTo>
                    <a:pt x="2044" y="878"/>
                  </a:lnTo>
                  <a:lnTo>
                    <a:pt x="2060" y="880"/>
                  </a:lnTo>
                  <a:lnTo>
                    <a:pt x="2060" y="880"/>
                  </a:lnTo>
                  <a:lnTo>
                    <a:pt x="2084" y="880"/>
                  </a:lnTo>
                  <a:lnTo>
                    <a:pt x="2084" y="880"/>
                  </a:lnTo>
                  <a:lnTo>
                    <a:pt x="2114" y="880"/>
                  </a:lnTo>
                  <a:lnTo>
                    <a:pt x="2152" y="878"/>
                  </a:lnTo>
                  <a:lnTo>
                    <a:pt x="2174" y="874"/>
                  </a:lnTo>
                  <a:lnTo>
                    <a:pt x="2198" y="870"/>
                  </a:lnTo>
                  <a:lnTo>
                    <a:pt x="2220" y="864"/>
                  </a:lnTo>
                  <a:lnTo>
                    <a:pt x="2244" y="856"/>
                  </a:lnTo>
                  <a:lnTo>
                    <a:pt x="2268" y="844"/>
                  </a:lnTo>
                  <a:lnTo>
                    <a:pt x="2292" y="832"/>
                  </a:lnTo>
                  <a:lnTo>
                    <a:pt x="2314" y="814"/>
                  </a:lnTo>
                  <a:lnTo>
                    <a:pt x="2336" y="794"/>
                  </a:lnTo>
                  <a:lnTo>
                    <a:pt x="2354" y="772"/>
                  </a:lnTo>
                  <a:lnTo>
                    <a:pt x="2372" y="744"/>
                  </a:lnTo>
                  <a:lnTo>
                    <a:pt x="2388" y="712"/>
                  </a:lnTo>
                  <a:lnTo>
                    <a:pt x="2400" y="676"/>
                  </a:lnTo>
                  <a:lnTo>
                    <a:pt x="2400" y="676"/>
                  </a:lnTo>
                  <a:lnTo>
                    <a:pt x="2408" y="636"/>
                  </a:lnTo>
                  <a:lnTo>
                    <a:pt x="2416" y="590"/>
                  </a:lnTo>
                  <a:lnTo>
                    <a:pt x="2420" y="536"/>
                  </a:lnTo>
                  <a:lnTo>
                    <a:pt x="2424" y="480"/>
                  </a:lnTo>
                  <a:lnTo>
                    <a:pt x="2430" y="358"/>
                  </a:lnTo>
                  <a:lnTo>
                    <a:pt x="2432" y="232"/>
                  </a:lnTo>
                  <a:lnTo>
                    <a:pt x="2432" y="232"/>
                  </a:lnTo>
                  <a:lnTo>
                    <a:pt x="2432" y="232"/>
                  </a:lnTo>
                  <a:lnTo>
                    <a:pt x="2432" y="214"/>
                  </a:lnTo>
                  <a:lnTo>
                    <a:pt x="2426" y="196"/>
                  </a:lnTo>
                  <a:lnTo>
                    <a:pt x="2418" y="180"/>
                  </a:lnTo>
                  <a:lnTo>
                    <a:pt x="2408" y="166"/>
                  </a:lnTo>
                  <a:lnTo>
                    <a:pt x="2408" y="166"/>
                  </a:lnTo>
                  <a:lnTo>
                    <a:pt x="2394" y="154"/>
                  </a:lnTo>
                  <a:lnTo>
                    <a:pt x="2378" y="146"/>
                  </a:lnTo>
                  <a:lnTo>
                    <a:pt x="2360" y="140"/>
                  </a:lnTo>
                  <a:lnTo>
                    <a:pt x="2342" y="140"/>
                  </a:lnTo>
                  <a:lnTo>
                    <a:pt x="2342" y="140"/>
                  </a:lnTo>
                  <a:close/>
                  <a:moveTo>
                    <a:pt x="1804" y="458"/>
                  </a:moveTo>
                  <a:lnTo>
                    <a:pt x="1804" y="458"/>
                  </a:lnTo>
                  <a:lnTo>
                    <a:pt x="1796" y="472"/>
                  </a:lnTo>
                  <a:lnTo>
                    <a:pt x="1786" y="486"/>
                  </a:lnTo>
                  <a:lnTo>
                    <a:pt x="1776" y="500"/>
                  </a:lnTo>
                  <a:lnTo>
                    <a:pt x="1764" y="514"/>
                  </a:lnTo>
                  <a:lnTo>
                    <a:pt x="1750" y="528"/>
                  </a:lnTo>
                  <a:lnTo>
                    <a:pt x="1734" y="542"/>
                  </a:lnTo>
                  <a:lnTo>
                    <a:pt x="1718" y="556"/>
                  </a:lnTo>
                  <a:lnTo>
                    <a:pt x="1698" y="570"/>
                  </a:lnTo>
                  <a:lnTo>
                    <a:pt x="1698" y="504"/>
                  </a:lnTo>
                  <a:lnTo>
                    <a:pt x="1698" y="504"/>
                  </a:lnTo>
                  <a:lnTo>
                    <a:pt x="1696" y="490"/>
                  </a:lnTo>
                  <a:lnTo>
                    <a:pt x="1694" y="478"/>
                  </a:lnTo>
                  <a:lnTo>
                    <a:pt x="1690" y="466"/>
                  </a:lnTo>
                  <a:lnTo>
                    <a:pt x="1684" y="456"/>
                  </a:lnTo>
                  <a:lnTo>
                    <a:pt x="1684" y="456"/>
                  </a:lnTo>
                  <a:lnTo>
                    <a:pt x="1694" y="458"/>
                  </a:lnTo>
                  <a:lnTo>
                    <a:pt x="1704" y="458"/>
                  </a:lnTo>
                  <a:lnTo>
                    <a:pt x="1804" y="458"/>
                  </a:lnTo>
                  <a:close/>
                </a:path>
              </a:pathLst>
            </a:custGeom>
            <a:solidFill>
              <a:srgbClr val="871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65"/>
            <p:cNvSpPr/>
            <p:nvPr/>
          </p:nvSpPr>
          <p:spPr>
            <a:xfrm>
              <a:off x="4608720" y="939600"/>
              <a:ext cx="2473200" cy="1333440"/>
            </a:xfrm>
            <a:custGeom>
              <a:avLst/>
              <a:gdLst>
                <a:gd name="textAreaLeft" fmla="*/ 0 w 2473200"/>
                <a:gd name="textAreaRight" fmla="*/ 2473560 w 247320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1558" h="840">
                  <a:moveTo>
                    <a:pt x="1468" y="256"/>
                  </a:moveTo>
                  <a:lnTo>
                    <a:pt x="788" y="256"/>
                  </a:lnTo>
                  <a:lnTo>
                    <a:pt x="788" y="256"/>
                  </a:lnTo>
                  <a:lnTo>
                    <a:pt x="776" y="258"/>
                  </a:lnTo>
                  <a:lnTo>
                    <a:pt x="762" y="260"/>
                  </a:lnTo>
                  <a:lnTo>
                    <a:pt x="752" y="264"/>
                  </a:lnTo>
                  <a:lnTo>
                    <a:pt x="740" y="270"/>
                  </a:lnTo>
                  <a:lnTo>
                    <a:pt x="740" y="270"/>
                  </a:lnTo>
                  <a:lnTo>
                    <a:pt x="724" y="234"/>
                  </a:lnTo>
                  <a:lnTo>
                    <a:pt x="724" y="234"/>
                  </a:lnTo>
                  <a:lnTo>
                    <a:pt x="720" y="224"/>
                  </a:lnTo>
                  <a:lnTo>
                    <a:pt x="712" y="214"/>
                  </a:lnTo>
                  <a:lnTo>
                    <a:pt x="706" y="206"/>
                  </a:lnTo>
                  <a:lnTo>
                    <a:pt x="696" y="198"/>
                  </a:lnTo>
                  <a:lnTo>
                    <a:pt x="686" y="192"/>
                  </a:lnTo>
                  <a:lnTo>
                    <a:pt x="676" y="186"/>
                  </a:lnTo>
                  <a:lnTo>
                    <a:pt x="664" y="182"/>
                  </a:lnTo>
                  <a:lnTo>
                    <a:pt x="654" y="180"/>
                  </a:lnTo>
                  <a:lnTo>
                    <a:pt x="654" y="180"/>
                  </a:lnTo>
                  <a:lnTo>
                    <a:pt x="642" y="180"/>
                  </a:lnTo>
                  <a:lnTo>
                    <a:pt x="630" y="180"/>
                  </a:lnTo>
                  <a:lnTo>
                    <a:pt x="618" y="182"/>
                  </a:lnTo>
                  <a:lnTo>
                    <a:pt x="606" y="186"/>
                  </a:lnTo>
                  <a:lnTo>
                    <a:pt x="596" y="192"/>
                  </a:lnTo>
                  <a:lnTo>
                    <a:pt x="586" y="198"/>
                  </a:lnTo>
                  <a:lnTo>
                    <a:pt x="578" y="206"/>
                  </a:lnTo>
                  <a:lnTo>
                    <a:pt x="570" y="214"/>
                  </a:lnTo>
                  <a:lnTo>
                    <a:pt x="570" y="214"/>
                  </a:lnTo>
                  <a:lnTo>
                    <a:pt x="548" y="240"/>
                  </a:lnTo>
                  <a:lnTo>
                    <a:pt x="524" y="266"/>
                  </a:lnTo>
                  <a:lnTo>
                    <a:pt x="498" y="292"/>
                  </a:lnTo>
                  <a:lnTo>
                    <a:pt x="468" y="318"/>
                  </a:lnTo>
                  <a:lnTo>
                    <a:pt x="438" y="344"/>
                  </a:lnTo>
                  <a:lnTo>
                    <a:pt x="406" y="370"/>
                  </a:lnTo>
                  <a:lnTo>
                    <a:pt x="372" y="394"/>
                  </a:lnTo>
                  <a:lnTo>
                    <a:pt x="336" y="416"/>
                  </a:lnTo>
                  <a:lnTo>
                    <a:pt x="336" y="166"/>
                  </a:lnTo>
                  <a:lnTo>
                    <a:pt x="336" y="166"/>
                  </a:lnTo>
                  <a:lnTo>
                    <a:pt x="346" y="150"/>
                  </a:lnTo>
                  <a:lnTo>
                    <a:pt x="352" y="134"/>
                  </a:lnTo>
                  <a:lnTo>
                    <a:pt x="354" y="120"/>
                  </a:lnTo>
                  <a:lnTo>
                    <a:pt x="354" y="108"/>
                  </a:lnTo>
                  <a:lnTo>
                    <a:pt x="354" y="108"/>
                  </a:lnTo>
                  <a:lnTo>
                    <a:pt x="352" y="88"/>
                  </a:lnTo>
                  <a:lnTo>
                    <a:pt x="348" y="70"/>
                  </a:lnTo>
                  <a:lnTo>
                    <a:pt x="340" y="54"/>
                  </a:lnTo>
                  <a:lnTo>
                    <a:pt x="328" y="38"/>
                  </a:lnTo>
                  <a:lnTo>
                    <a:pt x="312" y="26"/>
                  </a:lnTo>
                  <a:lnTo>
                    <a:pt x="294" y="16"/>
                  </a:lnTo>
                  <a:lnTo>
                    <a:pt x="272" y="8"/>
                  </a:lnTo>
                  <a:lnTo>
                    <a:pt x="248" y="6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82" y="0"/>
                  </a:lnTo>
                  <a:lnTo>
                    <a:pt x="64" y="6"/>
                  </a:lnTo>
                  <a:lnTo>
                    <a:pt x="48" y="14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22" y="38"/>
                  </a:lnTo>
                  <a:lnTo>
                    <a:pt x="12" y="54"/>
                  </a:lnTo>
                  <a:lnTo>
                    <a:pt x="8" y="72"/>
                  </a:lnTo>
                  <a:lnTo>
                    <a:pt x="6" y="90"/>
                  </a:lnTo>
                  <a:lnTo>
                    <a:pt x="6" y="614"/>
                  </a:lnTo>
                  <a:lnTo>
                    <a:pt x="6" y="614"/>
                  </a:lnTo>
                  <a:lnTo>
                    <a:pt x="4" y="626"/>
                  </a:lnTo>
                  <a:lnTo>
                    <a:pt x="4" y="630"/>
                  </a:lnTo>
                  <a:lnTo>
                    <a:pt x="4" y="630"/>
                  </a:lnTo>
                  <a:lnTo>
                    <a:pt x="2" y="642"/>
                  </a:lnTo>
                  <a:lnTo>
                    <a:pt x="0" y="654"/>
                  </a:lnTo>
                  <a:lnTo>
                    <a:pt x="2" y="666"/>
                  </a:lnTo>
                  <a:lnTo>
                    <a:pt x="4" y="678"/>
                  </a:lnTo>
                  <a:lnTo>
                    <a:pt x="8" y="690"/>
                  </a:lnTo>
                  <a:lnTo>
                    <a:pt x="12" y="700"/>
                  </a:lnTo>
                  <a:lnTo>
                    <a:pt x="20" y="710"/>
                  </a:lnTo>
                  <a:lnTo>
                    <a:pt x="28" y="720"/>
                  </a:lnTo>
                  <a:lnTo>
                    <a:pt x="122" y="814"/>
                  </a:lnTo>
                  <a:lnTo>
                    <a:pt x="122" y="814"/>
                  </a:lnTo>
                  <a:lnTo>
                    <a:pt x="136" y="824"/>
                  </a:lnTo>
                  <a:lnTo>
                    <a:pt x="152" y="832"/>
                  </a:lnTo>
                  <a:lnTo>
                    <a:pt x="168" y="838"/>
                  </a:lnTo>
                  <a:lnTo>
                    <a:pt x="186" y="840"/>
                  </a:lnTo>
                  <a:lnTo>
                    <a:pt x="186" y="840"/>
                  </a:lnTo>
                  <a:lnTo>
                    <a:pt x="206" y="838"/>
                  </a:lnTo>
                  <a:lnTo>
                    <a:pt x="224" y="830"/>
                  </a:lnTo>
                  <a:lnTo>
                    <a:pt x="224" y="830"/>
                  </a:lnTo>
                  <a:lnTo>
                    <a:pt x="280" y="804"/>
                  </a:lnTo>
                  <a:lnTo>
                    <a:pt x="280" y="804"/>
                  </a:lnTo>
                  <a:lnTo>
                    <a:pt x="354" y="772"/>
                  </a:lnTo>
                  <a:lnTo>
                    <a:pt x="354" y="772"/>
                  </a:lnTo>
                  <a:lnTo>
                    <a:pt x="416" y="742"/>
                  </a:lnTo>
                  <a:lnTo>
                    <a:pt x="456" y="720"/>
                  </a:lnTo>
                  <a:lnTo>
                    <a:pt x="502" y="694"/>
                  </a:lnTo>
                  <a:lnTo>
                    <a:pt x="552" y="662"/>
                  </a:lnTo>
                  <a:lnTo>
                    <a:pt x="604" y="626"/>
                  </a:lnTo>
                  <a:lnTo>
                    <a:pt x="658" y="584"/>
                  </a:lnTo>
                  <a:lnTo>
                    <a:pt x="712" y="538"/>
                  </a:lnTo>
                  <a:lnTo>
                    <a:pt x="712" y="538"/>
                  </a:lnTo>
                  <a:lnTo>
                    <a:pt x="720" y="546"/>
                  </a:lnTo>
                  <a:lnTo>
                    <a:pt x="728" y="554"/>
                  </a:lnTo>
                  <a:lnTo>
                    <a:pt x="736" y="560"/>
                  </a:lnTo>
                  <a:lnTo>
                    <a:pt x="744" y="566"/>
                  </a:lnTo>
                  <a:lnTo>
                    <a:pt x="754" y="572"/>
                  </a:lnTo>
                  <a:lnTo>
                    <a:pt x="766" y="576"/>
                  </a:lnTo>
                  <a:lnTo>
                    <a:pt x="776" y="578"/>
                  </a:lnTo>
                  <a:lnTo>
                    <a:pt x="788" y="578"/>
                  </a:lnTo>
                  <a:lnTo>
                    <a:pt x="1468" y="578"/>
                  </a:lnTo>
                  <a:lnTo>
                    <a:pt x="1468" y="578"/>
                  </a:lnTo>
                  <a:lnTo>
                    <a:pt x="1486" y="576"/>
                  </a:lnTo>
                  <a:lnTo>
                    <a:pt x="1502" y="572"/>
                  </a:lnTo>
                  <a:lnTo>
                    <a:pt x="1518" y="562"/>
                  </a:lnTo>
                  <a:lnTo>
                    <a:pt x="1532" y="552"/>
                  </a:lnTo>
                  <a:lnTo>
                    <a:pt x="1542" y="538"/>
                  </a:lnTo>
                  <a:lnTo>
                    <a:pt x="1550" y="522"/>
                  </a:lnTo>
                  <a:lnTo>
                    <a:pt x="1556" y="506"/>
                  </a:lnTo>
                  <a:lnTo>
                    <a:pt x="1558" y="488"/>
                  </a:lnTo>
                  <a:lnTo>
                    <a:pt x="1558" y="348"/>
                  </a:lnTo>
                  <a:lnTo>
                    <a:pt x="1558" y="348"/>
                  </a:lnTo>
                  <a:lnTo>
                    <a:pt x="1556" y="328"/>
                  </a:lnTo>
                  <a:lnTo>
                    <a:pt x="1550" y="312"/>
                  </a:lnTo>
                  <a:lnTo>
                    <a:pt x="1542" y="296"/>
                  </a:lnTo>
                  <a:lnTo>
                    <a:pt x="1532" y="282"/>
                  </a:lnTo>
                  <a:lnTo>
                    <a:pt x="1518" y="272"/>
                  </a:lnTo>
                  <a:lnTo>
                    <a:pt x="1502" y="264"/>
                  </a:lnTo>
                  <a:lnTo>
                    <a:pt x="1486" y="258"/>
                  </a:lnTo>
                  <a:lnTo>
                    <a:pt x="1468" y="256"/>
                  </a:lnTo>
                  <a:lnTo>
                    <a:pt x="1468" y="256"/>
                  </a:lnTo>
                  <a:close/>
                </a:path>
              </a:pathLst>
            </a:custGeom>
            <a:solidFill>
              <a:srgbClr val="871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66"/>
            <p:cNvSpPr/>
            <p:nvPr/>
          </p:nvSpPr>
          <p:spPr>
            <a:xfrm>
              <a:off x="782280" y="955800"/>
              <a:ext cx="3718080" cy="1289160"/>
            </a:xfrm>
            <a:custGeom>
              <a:avLst/>
              <a:gdLst>
                <a:gd name="textAreaLeft" fmla="*/ 0 w 3718080"/>
                <a:gd name="textAreaRight" fmla="*/ 3718440 w 371808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2342" h="812">
                  <a:moveTo>
                    <a:pt x="2296" y="140"/>
                  </a:moveTo>
                  <a:lnTo>
                    <a:pt x="2084" y="140"/>
                  </a:lnTo>
                  <a:lnTo>
                    <a:pt x="2084" y="140"/>
                  </a:lnTo>
                  <a:lnTo>
                    <a:pt x="2084" y="124"/>
                  </a:lnTo>
                  <a:lnTo>
                    <a:pt x="2084" y="124"/>
                  </a:lnTo>
                  <a:lnTo>
                    <a:pt x="2094" y="112"/>
                  </a:lnTo>
                  <a:lnTo>
                    <a:pt x="2100" y="102"/>
                  </a:lnTo>
                  <a:lnTo>
                    <a:pt x="2104" y="90"/>
                  </a:lnTo>
                  <a:lnTo>
                    <a:pt x="2104" y="80"/>
                  </a:lnTo>
                  <a:lnTo>
                    <a:pt x="2104" y="80"/>
                  </a:lnTo>
                  <a:lnTo>
                    <a:pt x="2102" y="66"/>
                  </a:lnTo>
                  <a:lnTo>
                    <a:pt x="2100" y="58"/>
                  </a:lnTo>
                  <a:lnTo>
                    <a:pt x="2094" y="48"/>
                  </a:lnTo>
                  <a:lnTo>
                    <a:pt x="2088" y="40"/>
                  </a:lnTo>
                  <a:lnTo>
                    <a:pt x="2076" y="32"/>
                  </a:lnTo>
                  <a:lnTo>
                    <a:pt x="2060" y="26"/>
                  </a:lnTo>
                  <a:lnTo>
                    <a:pt x="2042" y="22"/>
                  </a:lnTo>
                  <a:lnTo>
                    <a:pt x="1888" y="14"/>
                  </a:lnTo>
                  <a:lnTo>
                    <a:pt x="1888" y="14"/>
                  </a:lnTo>
                  <a:lnTo>
                    <a:pt x="1878" y="14"/>
                  </a:lnTo>
                  <a:lnTo>
                    <a:pt x="1870" y="18"/>
                  </a:lnTo>
                  <a:lnTo>
                    <a:pt x="1860" y="22"/>
                  </a:lnTo>
                  <a:lnTo>
                    <a:pt x="1854" y="28"/>
                  </a:lnTo>
                  <a:lnTo>
                    <a:pt x="1854" y="28"/>
                  </a:lnTo>
                  <a:lnTo>
                    <a:pt x="1848" y="36"/>
                  </a:lnTo>
                  <a:lnTo>
                    <a:pt x="1844" y="44"/>
                  </a:lnTo>
                  <a:lnTo>
                    <a:pt x="1840" y="54"/>
                  </a:lnTo>
                  <a:lnTo>
                    <a:pt x="1840" y="64"/>
                  </a:lnTo>
                  <a:lnTo>
                    <a:pt x="1840" y="64"/>
                  </a:lnTo>
                  <a:lnTo>
                    <a:pt x="1844" y="94"/>
                  </a:lnTo>
                  <a:lnTo>
                    <a:pt x="1846" y="140"/>
                  </a:lnTo>
                  <a:lnTo>
                    <a:pt x="1658" y="140"/>
                  </a:lnTo>
                  <a:lnTo>
                    <a:pt x="1658" y="140"/>
                  </a:lnTo>
                  <a:lnTo>
                    <a:pt x="1650" y="142"/>
                  </a:lnTo>
                  <a:lnTo>
                    <a:pt x="1640" y="144"/>
                  </a:lnTo>
                  <a:lnTo>
                    <a:pt x="1632" y="148"/>
                  </a:lnTo>
                  <a:lnTo>
                    <a:pt x="1626" y="154"/>
                  </a:lnTo>
                  <a:lnTo>
                    <a:pt x="1620" y="160"/>
                  </a:lnTo>
                  <a:lnTo>
                    <a:pt x="1616" y="168"/>
                  </a:lnTo>
                  <a:lnTo>
                    <a:pt x="1614" y="176"/>
                  </a:lnTo>
                  <a:lnTo>
                    <a:pt x="1612" y="186"/>
                  </a:lnTo>
                  <a:lnTo>
                    <a:pt x="1612" y="324"/>
                  </a:lnTo>
                  <a:lnTo>
                    <a:pt x="1612" y="324"/>
                  </a:lnTo>
                  <a:lnTo>
                    <a:pt x="1614" y="332"/>
                  </a:lnTo>
                  <a:lnTo>
                    <a:pt x="1616" y="340"/>
                  </a:lnTo>
                  <a:lnTo>
                    <a:pt x="1620" y="348"/>
                  </a:lnTo>
                  <a:lnTo>
                    <a:pt x="1626" y="356"/>
                  </a:lnTo>
                  <a:lnTo>
                    <a:pt x="1632" y="360"/>
                  </a:lnTo>
                  <a:lnTo>
                    <a:pt x="1640" y="364"/>
                  </a:lnTo>
                  <a:lnTo>
                    <a:pt x="1650" y="368"/>
                  </a:lnTo>
                  <a:lnTo>
                    <a:pt x="1658" y="368"/>
                  </a:lnTo>
                  <a:lnTo>
                    <a:pt x="1822" y="368"/>
                  </a:lnTo>
                  <a:lnTo>
                    <a:pt x="1822" y="368"/>
                  </a:lnTo>
                  <a:lnTo>
                    <a:pt x="1814" y="400"/>
                  </a:lnTo>
                  <a:lnTo>
                    <a:pt x="1800" y="430"/>
                  </a:lnTo>
                  <a:lnTo>
                    <a:pt x="1784" y="460"/>
                  </a:lnTo>
                  <a:lnTo>
                    <a:pt x="1774" y="474"/>
                  </a:lnTo>
                  <a:lnTo>
                    <a:pt x="1762" y="490"/>
                  </a:lnTo>
                  <a:lnTo>
                    <a:pt x="1748" y="504"/>
                  </a:lnTo>
                  <a:lnTo>
                    <a:pt x="1734" y="520"/>
                  </a:lnTo>
                  <a:lnTo>
                    <a:pt x="1718" y="534"/>
                  </a:lnTo>
                  <a:lnTo>
                    <a:pt x="1698" y="548"/>
                  </a:lnTo>
                  <a:lnTo>
                    <a:pt x="1678" y="562"/>
                  </a:lnTo>
                  <a:lnTo>
                    <a:pt x="1656" y="576"/>
                  </a:lnTo>
                  <a:lnTo>
                    <a:pt x="1630" y="590"/>
                  </a:lnTo>
                  <a:lnTo>
                    <a:pt x="1604" y="602"/>
                  </a:lnTo>
                  <a:lnTo>
                    <a:pt x="1604" y="602"/>
                  </a:lnTo>
                  <a:lnTo>
                    <a:pt x="1594" y="608"/>
                  </a:lnTo>
                  <a:lnTo>
                    <a:pt x="1586" y="618"/>
                  </a:lnTo>
                  <a:lnTo>
                    <a:pt x="1586" y="618"/>
                  </a:lnTo>
                  <a:lnTo>
                    <a:pt x="1558" y="610"/>
                  </a:lnTo>
                  <a:lnTo>
                    <a:pt x="1560" y="610"/>
                  </a:lnTo>
                  <a:lnTo>
                    <a:pt x="1560" y="610"/>
                  </a:lnTo>
                  <a:lnTo>
                    <a:pt x="1570" y="610"/>
                  </a:lnTo>
                  <a:lnTo>
                    <a:pt x="1578" y="606"/>
                  </a:lnTo>
                  <a:lnTo>
                    <a:pt x="1586" y="602"/>
                  </a:lnTo>
                  <a:lnTo>
                    <a:pt x="1592" y="596"/>
                  </a:lnTo>
                  <a:lnTo>
                    <a:pt x="1598" y="590"/>
                  </a:lnTo>
                  <a:lnTo>
                    <a:pt x="1602" y="582"/>
                  </a:lnTo>
                  <a:lnTo>
                    <a:pt x="1606" y="574"/>
                  </a:lnTo>
                  <a:lnTo>
                    <a:pt x="1606" y="564"/>
                  </a:lnTo>
                  <a:lnTo>
                    <a:pt x="1606" y="460"/>
                  </a:lnTo>
                  <a:lnTo>
                    <a:pt x="1606" y="460"/>
                  </a:lnTo>
                  <a:lnTo>
                    <a:pt x="1606" y="450"/>
                  </a:lnTo>
                  <a:lnTo>
                    <a:pt x="1602" y="442"/>
                  </a:lnTo>
                  <a:lnTo>
                    <a:pt x="1598" y="434"/>
                  </a:lnTo>
                  <a:lnTo>
                    <a:pt x="1592" y="428"/>
                  </a:lnTo>
                  <a:lnTo>
                    <a:pt x="1586" y="422"/>
                  </a:lnTo>
                  <a:lnTo>
                    <a:pt x="1578" y="418"/>
                  </a:lnTo>
                  <a:lnTo>
                    <a:pt x="1570" y="416"/>
                  </a:lnTo>
                  <a:lnTo>
                    <a:pt x="1560" y="414"/>
                  </a:lnTo>
                  <a:lnTo>
                    <a:pt x="1512" y="414"/>
                  </a:lnTo>
                  <a:lnTo>
                    <a:pt x="1512" y="414"/>
                  </a:lnTo>
                  <a:lnTo>
                    <a:pt x="1524" y="396"/>
                  </a:lnTo>
                  <a:lnTo>
                    <a:pt x="1524" y="396"/>
                  </a:lnTo>
                  <a:lnTo>
                    <a:pt x="1536" y="390"/>
                  </a:lnTo>
                  <a:lnTo>
                    <a:pt x="1546" y="384"/>
                  </a:lnTo>
                  <a:lnTo>
                    <a:pt x="1554" y="378"/>
                  </a:lnTo>
                  <a:lnTo>
                    <a:pt x="1560" y="370"/>
                  </a:lnTo>
                  <a:lnTo>
                    <a:pt x="1564" y="364"/>
                  </a:lnTo>
                  <a:lnTo>
                    <a:pt x="1566" y="356"/>
                  </a:lnTo>
                  <a:lnTo>
                    <a:pt x="1568" y="340"/>
                  </a:lnTo>
                  <a:lnTo>
                    <a:pt x="1568" y="340"/>
                  </a:lnTo>
                  <a:lnTo>
                    <a:pt x="1568" y="330"/>
                  </a:lnTo>
                  <a:lnTo>
                    <a:pt x="1564" y="318"/>
                  </a:lnTo>
                  <a:lnTo>
                    <a:pt x="1564" y="318"/>
                  </a:lnTo>
                  <a:lnTo>
                    <a:pt x="1568" y="308"/>
                  </a:lnTo>
                  <a:lnTo>
                    <a:pt x="1568" y="296"/>
                  </a:lnTo>
                  <a:lnTo>
                    <a:pt x="1568" y="296"/>
                  </a:lnTo>
                  <a:lnTo>
                    <a:pt x="1566" y="282"/>
                  </a:lnTo>
                  <a:lnTo>
                    <a:pt x="1562" y="272"/>
                  </a:lnTo>
                  <a:lnTo>
                    <a:pt x="1558" y="264"/>
                  </a:lnTo>
                  <a:lnTo>
                    <a:pt x="1554" y="258"/>
                  </a:lnTo>
                  <a:lnTo>
                    <a:pt x="1540" y="240"/>
                  </a:lnTo>
                  <a:lnTo>
                    <a:pt x="1560" y="240"/>
                  </a:lnTo>
                  <a:lnTo>
                    <a:pt x="1560" y="240"/>
                  </a:lnTo>
                  <a:lnTo>
                    <a:pt x="1568" y="238"/>
                  </a:lnTo>
                  <a:lnTo>
                    <a:pt x="1576" y="236"/>
                  </a:lnTo>
                  <a:lnTo>
                    <a:pt x="1584" y="232"/>
                  </a:lnTo>
                  <a:lnTo>
                    <a:pt x="1592" y="226"/>
                  </a:lnTo>
                  <a:lnTo>
                    <a:pt x="1596" y="220"/>
                  </a:lnTo>
                  <a:lnTo>
                    <a:pt x="1600" y="212"/>
                  </a:lnTo>
                  <a:lnTo>
                    <a:pt x="1604" y="204"/>
                  </a:lnTo>
                  <a:lnTo>
                    <a:pt x="1604" y="194"/>
                  </a:lnTo>
                  <a:lnTo>
                    <a:pt x="1604" y="90"/>
                  </a:lnTo>
                  <a:lnTo>
                    <a:pt x="1604" y="90"/>
                  </a:lnTo>
                  <a:lnTo>
                    <a:pt x="1604" y="82"/>
                  </a:lnTo>
                  <a:lnTo>
                    <a:pt x="1600" y="72"/>
                  </a:lnTo>
                  <a:lnTo>
                    <a:pt x="1596" y="66"/>
                  </a:lnTo>
                  <a:lnTo>
                    <a:pt x="1592" y="58"/>
                  </a:lnTo>
                  <a:lnTo>
                    <a:pt x="1584" y="52"/>
                  </a:lnTo>
                  <a:lnTo>
                    <a:pt x="1576" y="48"/>
                  </a:lnTo>
                  <a:lnTo>
                    <a:pt x="1568" y="46"/>
                  </a:lnTo>
                  <a:lnTo>
                    <a:pt x="1560" y="46"/>
                  </a:lnTo>
                  <a:lnTo>
                    <a:pt x="1446" y="46"/>
                  </a:lnTo>
                  <a:lnTo>
                    <a:pt x="1446" y="46"/>
                  </a:lnTo>
                  <a:lnTo>
                    <a:pt x="1440" y="32"/>
                  </a:lnTo>
                  <a:lnTo>
                    <a:pt x="1436" y="26"/>
                  </a:lnTo>
                  <a:lnTo>
                    <a:pt x="1430" y="18"/>
                  </a:lnTo>
                  <a:lnTo>
                    <a:pt x="1422" y="14"/>
                  </a:lnTo>
                  <a:lnTo>
                    <a:pt x="1412" y="8"/>
                  </a:lnTo>
                  <a:lnTo>
                    <a:pt x="1400" y="6"/>
                  </a:lnTo>
                  <a:lnTo>
                    <a:pt x="1386" y="4"/>
                  </a:lnTo>
                  <a:lnTo>
                    <a:pt x="1256" y="0"/>
                  </a:lnTo>
                  <a:lnTo>
                    <a:pt x="1256" y="0"/>
                  </a:lnTo>
                  <a:lnTo>
                    <a:pt x="1248" y="2"/>
                  </a:lnTo>
                  <a:lnTo>
                    <a:pt x="1238" y="4"/>
                  </a:lnTo>
                  <a:lnTo>
                    <a:pt x="1230" y="8"/>
                  </a:lnTo>
                  <a:lnTo>
                    <a:pt x="1224" y="14"/>
                  </a:lnTo>
                  <a:lnTo>
                    <a:pt x="1224" y="14"/>
                  </a:lnTo>
                  <a:lnTo>
                    <a:pt x="1218" y="20"/>
                  </a:lnTo>
                  <a:lnTo>
                    <a:pt x="1214" y="26"/>
                  </a:lnTo>
                  <a:lnTo>
                    <a:pt x="1212" y="32"/>
                  </a:lnTo>
                  <a:lnTo>
                    <a:pt x="1210" y="40"/>
                  </a:lnTo>
                  <a:lnTo>
                    <a:pt x="1210" y="40"/>
                  </a:lnTo>
                  <a:lnTo>
                    <a:pt x="1202" y="26"/>
                  </a:lnTo>
                  <a:lnTo>
                    <a:pt x="1196" y="22"/>
                  </a:lnTo>
                  <a:lnTo>
                    <a:pt x="1190" y="16"/>
                  </a:lnTo>
                  <a:lnTo>
                    <a:pt x="1182" y="12"/>
                  </a:lnTo>
                  <a:lnTo>
                    <a:pt x="1174" y="8"/>
                  </a:lnTo>
                  <a:lnTo>
                    <a:pt x="1164" y="6"/>
                  </a:lnTo>
                  <a:lnTo>
                    <a:pt x="1154" y="6"/>
                  </a:lnTo>
                  <a:lnTo>
                    <a:pt x="1020" y="2"/>
                  </a:lnTo>
                  <a:lnTo>
                    <a:pt x="1020" y="2"/>
                  </a:lnTo>
                  <a:lnTo>
                    <a:pt x="1010" y="4"/>
                  </a:lnTo>
                  <a:lnTo>
                    <a:pt x="1002" y="6"/>
                  </a:lnTo>
                  <a:lnTo>
                    <a:pt x="994" y="10"/>
                  </a:lnTo>
                  <a:lnTo>
                    <a:pt x="986" y="16"/>
                  </a:lnTo>
                  <a:lnTo>
                    <a:pt x="986" y="16"/>
                  </a:lnTo>
                  <a:lnTo>
                    <a:pt x="982" y="22"/>
                  </a:lnTo>
                  <a:lnTo>
                    <a:pt x="978" y="28"/>
                  </a:lnTo>
                  <a:lnTo>
                    <a:pt x="974" y="36"/>
                  </a:lnTo>
                  <a:lnTo>
                    <a:pt x="974" y="46"/>
                  </a:lnTo>
                  <a:lnTo>
                    <a:pt x="840" y="46"/>
                  </a:lnTo>
                  <a:lnTo>
                    <a:pt x="840" y="46"/>
                  </a:lnTo>
                  <a:lnTo>
                    <a:pt x="828" y="46"/>
                  </a:lnTo>
                  <a:lnTo>
                    <a:pt x="818" y="50"/>
                  </a:lnTo>
                  <a:lnTo>
                    <a:pt x="808" y="58"/>
                  </a:lnTo>
                  <a:lnTo>
                    <a:pt x="802" y="66"/>
                  </a:lnTo>
                  <a:lnTo>
                    <a:pt x="768" y="30"/>
                  </a:lnTo>
                  <a:lnTo>
                    <a:pt x="768" y="30"/>
                  </a:lnTo>
                  <a:lnTo>
                    <a:pt x="762" y="24"/>
                  </a:lnTo>
                  <a:lnTo>
                    <a:pt x="754" y="20"/>
                  </a:lnTo>
                  <a:lnTo>
                    <a:pt x="744" y="16"/>
                  </a:lnTo>
                  <a:lnTo>
                    <a:pt x="736" y="16"/>
                  </a:lnTo>
                  <a:lnTo>
                    <a:pt x="438" y="16"/>
                  </a:lnTo>
                  <a:lnTo>
                    <a:pt x="438" y="16"/>
                  </a:lnTo>
                  <a:lnTo>
                    <a:pt x="424" y="18"/>
                  </a:lnTo>
                  <a:lnTo>
                    <a:pt x="424" y="18"/>
                  </a:lnTo>
                  <a:lnTo>
                    <a:pt x="410" y="16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62" y="16"/>
                  </a:lnTo>
                  <a:lnTo>
                    <a:pt x="54" y="20"/>
                  </a:lnTo>
                  <a:lnTo>
                    <a:pt x="46" y="24"/>
                  </a:lnTo>
                  <a:lnTo>
                    <a:pt x="40" y="28"/>
                  </a:lnTo>
                  <a:lnTo>
                    <a:pt x="34" y="36"/>
                  </a:lnTo>
                  <a:lnTo>
                    <a:pt x="30" y="44"/>
                  </a:lnTo>
                  <a:lnTo>
                    <a:pt x="28" y="52"/>
                  </a:lnTo>
                  <a:lnTo>
                    <a:pt x="26" y="60"/>
                  </a:lnTo>
                  <a:lnTo>
                    <a:pt x="26" y="426"/>
                  </a:lnTo>
                  <a:lnTo>
                    <a:pt x="26" y="426"/>
                  </a:lnTo>
                  <a:lnTo>
                    <a:pt x="26" y="430"/>
                  </a:lnTo>
                  <a:lnTo>
                    <a:pt x="26" y="430"/>
                  </a:lnTo>
                  <a:lnTo>
                    <a:pt x="22" y="436"/>
                  </a:lnTo>
                  <a:lnTo>
                    <a:pt x="20" y="442"/>
                  </a:lnTo>
                  <a:lnTo>
                    <a:pt x="18" y="450"/>
                  </a:lnTo>
                  <a:lnTo>
                    <a:pt x="16" y="458"/>
                  </a:lnTo>
                  <a:lnTo>
                    <a:pt x="16" y="560"/>
                  </a:lnTo>
                  <a:lnTo>
                    <a:pt x="16" y="560"/>
                  </a:lnTo>
                  <a:lnTo>
                    <a:pt x="18" y="568"/>
                  </a:lnTo>
                  <a:lnTo>
                    <a:pt x="20" y="576"/>
                  </a:lnTo>
                  <a:lnTo>
                    <a:pt x="24" y="582"/>
                  </a:lnTo>
                  <a:lnTo>
                    <a:pt x="28" y="588"/>
                  </a:lnTo>
                  <a:lnTo>
                    <a:pt x="28" y="588"/>
                  </a:lnTo>
                  <a:lnTo>
                    <a:pt x="18" y="594"/>
                  </a:lnTo>
                  <a:lnTo>
                    <a:pt x="10" y="602"/>
                  </a:lnTo>
                  <a:lnTo>
                    <a:pt x="10" y="602"/>
                  </a:lnTo>
                  <a:lnTo>
                    <a:pt x="4" y="610"/>
                  </a:lnTo>
                  <a:lnTo>
                    <a:pt x="2" y="620"/>
                  </a:lnTo>
                  <a:lnTo>
                    <a:pt x="0" y="628"/>
                  </a:lnTo>
                  <a:lnTo>
                    <a:pt x="0" y="638"/>
                  </a:lnTo>
                  <a:lnTo>
                    <a:pt x="22" y="760"/>
                  </a:lnTo>
                  <a:lnTo>
                    <a:pt x="22" y="760"/>
                  </a:lnTo>
                  <a:lnTo>
                    <a:pt x="22" y="760"/>
                  </a:lnTo>
                  <a:lnTo>
                    <a:pt x="22" y="760"/>
                  </a:lnTo>
                  <a:lnTo>
                    <a:pt x="24" y="770"/>
                  </a:lnTo>
                  <a:lnTo>
                    <a:pt x="30" y="780"/>
                  </a:lnTo>
                  <a:lnTo>
                    <a:pt x="34" y="788"/>
                  </a:lnTo>
                  <a:lnTo>
                    <a:pt x="42" y="796"/>
                  </a:lnTo>
                  <a:lnTo>
                    <a:pt x="50" y="802"/>
                  </a:lnTo>
                  <a:lnTo>
                    <a:pt x="58" y="806"/>
                  </a:lnTo>
                  <a:lnTo>
                    <a:pt x="68" y="808"/>
                  </a:lnTo>
                  <a:lnTo>
                    <a:pt x="78" y="810"/>
                  </a:lnTo>
                  <a:lnTo>
                    <a:pt x="78" y="810"/>
                  </a:lnTo>
                  <a:lnTo>
                    <a:pt x="88" y="808"/>
                  </a:lnTo>
                  <a:lnTo>
                    <a:pt x="102" y="804"/>
                  </a:lnTo>
                  <a:lnTo>
                    <a:pt x="114" y="798"/>
                  </a:lnTo>
                  <a:lnTo>
                    <a:pt x="120" y="792"/>
                  </a:lnTo>
                  <a:lnTo>
                    <a:pt x="126" y="784"/>
                  </a:lnTo>
                  <a:lnTo>
                    <a:pt x="126" y="784"/>
                  </a:lnTo>
                  <a:lnTo>
                    <a:pt x="272" y="762"/>
                  </a:lnTo>
                  <a:lnTo>
                    <a:pt x="352" y="748"/>
                  </a:lnTo>
                  <a:lnTo>
                    <a:pt x="416" y="736"/>
                  </a:lnTo>
                  <a:lnTo>
                    <a:pt x="416" y="736"/>
                  </a:lnTo>
                  <a:lnTo>
                    <a:pt x="418" y="764"/>
                  </a:lnTo>
                  <a:lnTo>
                    <a:pt x="418" y="764"/>
                  </a:lnTo>
                  <a:lnTo>
                    <a:pt x="418" y="774"/>
                  </a:lnTo>
                  <a:lnTo>
                    <a:pt x="420" y="782"/>
                  </a:lnTo>
                  <a:lnTo>
                    <a:pt x="424" y="788"/>
                  </a:lnTo>
                  <a:lnTo>
                    <a:pt x="430" y="796"/>
                  </a:lnTo>
                  <a:lnTo>
                    <a:pt x="436" y="802"/>
                  </a:lnTo>
                  <a:lnTo>
                    <a:pt x="442" y="806"/>
                  </a:lnTo>
                  <a:lnTo>
                    <a:pt x="450" y="808"/>
                  </a:lnTo>
                  <a:lnTo>
                    <a:pt x="460" y="810"/>
                  </a:lnTo>
                  <a:lnTo>
                    <a:pt x="462" y="810"/>
                  </a:lnTo>
                  <a:lnTo>
                    <a:pt x="462" y="810"/>
                  </a:lnTo>
                  <a:lnTo>
                    <a:pt x="488" y="812"/>
                  </a:lnTo>
                  <a:lnTo>
                    <a:pt x="488" y="812"/>
                  </a:lnTo>
                  <a:lnTo>
                    <a:pt x="520" y="812"/>
                  </a:lnTo>
                  <a:lnTo>
                    <a:pt x="554" y="808"/>
                  </a:lnTo>
                  <a:lnTo>
                    <a:pt x="586" y="800"/>
                  </a:lnTo>
                  <a:lnTo>
                    <a:pt x="602" y="796"/>
                  </a:lnTo>
                  <a:lnTo>
                    <a:pt x="616" y="788"/>
                  </a:lnTo>
                  <a:lnTo>
                    <a:pt x="630" y="780"/>
                  </a:lnTo>
                  <a:lnTo>
                    <a:pt x="642" y="772"/>
                  </a:lnTo>
                  <a:lnTo>
                    <a:pt x="654" y="760"/>
                  </a:lnTo>
                  <a:lnTo>
                    <a:pt x="664" y="746"/>
                  </a:lnTo>
                  <a:lnTo>
                    <a:pt x="670" y="730"/>
                  </a:lnTo>
                  <a:lnTo>
                    <a:pt x="676" y="712"/>
                  </a:lnTo>
                  <a:lnTo>
                    <a:pt x="680" y="692"/>
                  </a:lnTo>
                  <a:lnTo>
                    <a:pt x="682" y="670"/>
                  </a:lnTo>
                  <a:lnTo>
                    <a:pt x="682" y="602"/>
                  </a:lnTo>
                  <a:lnTo>
                    <a:pt x="682" y="602"/>
                  </a:lnTo>
                  <a:lnTo>
                    <a:pt x="688" y="604"/>
                  </a:lnTo>
                  <a:lnTo>
                    <a:pt x="688" y="604"/>
                  </a:lnTo>
                  <a:lnTo>
                    <a:pt x="696" y="608"/>
                  </a:lnTo>
                  <a:lnTo>
                    <a:pt x="706" y="612"/>
                  </a:lnTo>
                  <a:lnTo>
                    <a:pt x="714" y="612"/>
                  </a:lnTo>
                  <a:lnTo>
                    <a:pt x="722" y="610"/>
                  </a:lnTo>
                  <a:lnTo>
                    <a:pt x="722" y="610"/>
                  </a:lnTo>
                  <a:lnTo>
                    <a:pt x="732" y="608"/>
                  </a:lnTo>
                  <a:lnTo>
                    <a:pt x="740" y="602"/>
                  </a:lnTo>
                  <a:lnTo>
                    <a:pt x="746" y="596"/>
                  </a:lnTo>
                  <a:lnTo>
                    <a:pt x="752" y="590"/>
                  </a:lnTo>
                  <a:lnTo>
                    <a:pt x="752" y="590"/>
                  </a:lnTo>
                  <a:lnTo>
                    <a:pt x="770" y="552"/>
                  </a:lnTo>
                  <a:lnTo>
                    <a:pt x="796" y="496"/>
                  </a:lnTo>
                  <a:lnTo>
                    <a:pt x="796" y="564"/>
                  </a:lnTo>
                  <a:lnTo>
                    <a:pt x="796" y="564"/>
                  </a:lnTo>
                  <a:lnTo>
                    <a:pt x="796" y="574"/>
                  </a:lnTo>
                  <a:lnTo>
                    <a:pt x="798" y="582"/>
                  </a:lnTo>
                  <a:lnTo>
                    <a:pt x="804" y="590"/>
                  </a:lnTo>
                  <a:lnTo>
                    <a:pt x="808" y="596"/>
                  </a:lnTo>
                  <a:lnTo>
                    <a:pt x="816" y="602"/>
                  </a:lnTo>
                  <a:lnTo>
                    <a:pt x="822" y="606"/>
                  </a:lnTo>
                  <a:lnTo>
                    <a:pt x="832" y="610"/>
                  </a:lnTo>
                  <a:lnTo>
                    <a:pt x="840" y="610"/>
                  </a:lnTo>
                  <a:lnTo>
                    <a:pt x="840" y="610"/>
                  </a:lnTo>
                  <a:lnTo>
                    <a:pt x="808" y="620"/>
                  </a:lnTo>
                  <a:lnTo>
                    <a:pt x="808" y="620"/>
                  </a:lnTo>
                  <a:lnTo>
                    <a:pt x="796" y="624"/>
                  </a:lnTo>
                  <a:lnTo>
                    <a:pt x="788" y="632"/>
                  </a:lnTo>
                  <a:lnTo>
                    <a:pt x="780" y="640"/>
                  </a:lnTo>
                  <a:lnTo>
                    <a:pt x="776" y="652"/>
                  </a:lnTo>
                  <a:lnTo>
                    <a:pt x="776" y="652"/>
                  </a:lnTo>
                  <a:lnTo>
                    <a:pt x="774" y="664"/>
                  </a:lnTo>
                  <a:lnTo>
                    <a:pt x="776" y="676"/>
                  </a:lnTo>
                  <a:lnTo>
                    <a:pt x="782" y="688"/>
                  </a:lnTo>
                  <a:lnTo>
                    <a:pt x="790" y="696"/>
                  </a:lnTo>
                  <a:lnTo>
                    <a:pt x="790" y="696"/>
                  </a:lnTo>
                  <a:lnTo>
                    <a:pt x="812" y="718"/>
                  </a:lnTo>
                  <a:lnTo>
                    <a:pt x="832" y="740"/>
                  </a:lnTo>
                  <a:lnTo>
                    <a:pt x="850" y="764"/>
                  </a:lnTo>
                  <a:lnTo>
                    <a:pt x="866" y="790"/>
                  </a:lnTo>
                  <a:lnTo>
                    <a:pt x="866" y="790"/>
                  </a:lnTo>
                  <a:lnTo>
                    <a:pt x="872" y="796"/>
                  </a:lnTo>
                  <a:lnTo>
                    <a:pt x="878" y="802"/>
                  </a:lnTo>
                  <a:lnTo>
                    <a:pt x="884" y="806"/>
                  </a:lnTo>
                  <a:lnTo>
                    <a:pt x="890" y="810"/>
                  </a:lnTo>
                  <a:lnTo>
                    <a:pt x="898" y="810"/>
                  </a:lnTo>
                  <a:lnTo>
                    <a:pt x="906" y="812"/>
                  </a:lnTo>
                  <a:lnTo>
                    <a:pt x="914" y="810"/>
                  </a:lnTo>
                  <a:lnTo>
                    <a:pt x="922" y="808"/>
                  </a:lnTo>
                  <a:lnTo>
                    <a:pt x="922" y="808"/>
                  </a:lnTo>
                  <a:lnTo>
                    <a:pt x="944" y="800"/>
                  </a:lnTo>
                  <a:lnTo>
                    <a:pt x="982" y="782"/>
                  </a:lnTo>
                  <a:lnTo>
                    <a:pt x="1034" y="754"/>
                  </a:lnTo>
                  <a:lnTo>
                    <a:pt x="1062" y="736"/>
                  </a:lnTo>
                  <a:lnTo>
                    <a:pt x="1090" y="714"/>
                  </a:lnTo>
                  <a:lnTo>
                    <a:pt x="1090" y="766"/>
                  </a:lnTo>
                  <a:lnTo>
                    <a:pt x="1090" y="766"/>
                  </a:lnTo>
                  <a:lnTo>
                    <a:pt x="1092" y="776"/>
                  </a:lnTo>
                  <a:lnTo>
                    <a:pt x="1094" y="784"/>
                  </a:lnTo>
                  <a:lnTo>
                    <a:pt x="1098" y="792"/>
                  </a:lnTo>
                  <a:lnTo>
                    <a:pt x="1104" y="798"/>
                  </a:lnTo>
                  <a:lnTo>
                    <a:pt x="1110" y="804"/>
                  </a:lnTo>
                  <a:lnTo>
                    <a:pt x="1118" y="808"/>
                  </a:lnTo>
                  <a:lnTo>
                    <a:pt x="1128" y="810"/>
                  </a:lnTo>
                  <a:lnTo>
                    <a:pt x="1136" y="812"/>
                  </a:lnTo>
                  <a:lnTo>
                    <a:pt x="1262" y="812"/>
                  </a:lnTo>
                  <a:lnTo>
                    <a:pt x="1262" y="812"/>
                  </a:lnTo>
                  <a:lnTo>
                    <a:pt x="1272" y="810"/>
                  </a:lnTo>
                  <a:lnTo>
                    <a:pt x="1280" y="808"/>
                  </a:lnTo>
                  <a:lnTo>
                    <a:pt x="1288" y="804"/>
                  </a:lnTo>
                  <a:lnTo>
                    <a:pt x="1294" y="798"/>
                  </a:lnTo>
                  <a:lnTo>
                    <a:pt x="1300" y="792"/>
                  </a:lnTo>
                  <a:lnTo>
                    <a:pt x="1304" y="784"/>
                  </a:lnTo>
                  <a:lnTo>
                    <a:pt x="1308" y="776"/>
                  </a:lnTo>
                  <a:lnTo>
                    <a:pt x="1308" y="766"/>
                  </a:lnTo>
                  <a:lnTo>
                    <a:pt x="1308" y="714"/>
                  </a:lnTo>
                  <a:lnTo>
                    <a:pt x="1308" y="714"/>
                  </a:lnTo>
                  <a:lnTo>
                    <a:pt x="1336" y="734"/>
                  </a:lnTo>
                  <a:lnTo>
                    <a:pt x="1364" y="752"/>
                  </a:lnTo>
                  <a:lnTo>
                    <a:pt x="1390" y="768"/>
                  </a:lnTo>
                  <a:lnTo>
                    <a:pt x="1414" y="780"/>
                  </a:lnTo>
                  <a:lnTo>
                    <a:pt x="1454" y="800"/>
                  </a:lnTo>
                  <a:lnTo>
                    <a:pt x="1480" y="810"/>
                  </a:lnTo>
                  <a:lnTo>
                    <a:pt x="1480" y="810"/>
                  </a:lnTo>
                  <a:lnTo>
                    <a:pt x="1494" y="812"/>
                  </a:lnTo>
                  <a:lnTo>
                    <a:pt x="1494" y="812"/>
                  </a:lnTo>
                  <a:lnTo>
                    <a:pt x="1506" y="810"/>
                  </a:lnTo>
                  <a:lnTo>
                    <a:pt x="1518" y="806"/>
                  </a:lnTo>
                  <a:lnTo>
                    <a:pt x="1526" y="798"/>
                  </a:lnTo>
                  <a:lnTo>
                    <a:pt x="1534" y="788"/>
                  </a:lnTo>
                  <a:lnTo>
                    <a:pt x="1534" y="788"/>
                  </a:lnTo>
                  <a:lnTo>
                    <a:pt x="1550" y="764"/>
                  </a:lnTo>
                  <a:lnTo>
                    <a:pt x="1566" y="740"/>
                  </a:lnTo>
                  <a:lnTo>
                    <a:pt x="1586" y="718"/>
                  </a:lnTo>
                  <a:lnTo>
                    <a:pt x="1610" y="698"/>
                  </a:lnTo>
                  <a:lnTo>
                    <a:pt x="1610" y="698"/>
                  </a:lnTo>
                  <a:lnTo>
                    <a:pt x="1614" y="694"/>
                  </a:lnTo>
                  <a:lnTo>
                    <a:pt x="1614" y="694"/>
                  </a:lnTo>
                  <a:lnTo>
                    <a:pt x="1636" y="714"/>
                  </a:lnTo>
                  <a:lnTo>
                    <a:pt x="1660" y="736"/>
                  </a:lnTo>
                  <a:lnTo>
                    <a:pt x="1680" y="760"/>
                  </a:lnTo>
                  <a:lnTo>
                    <a:pt x="1696" y="780"/>
                  </a:lnTo>
                  <a:lnTo>
                    <a:pt x="1696" y="780"/>
                  </a:lnTo>
                  <a:lnTo>
                    <a:pt x="1704" y="788"/>
                  </a:lnTo>
                  <a:lnTo>
                    <a:pt x="1714" y="792"/>
                  </a:lnTo>
                  <a:lnTo>
                    <a:pt x="1722" y="796"/>
                  </a:lnTo>
                  <a:lnTo>
                    <a:pt x="1734" y="798"/>
                  </a:lnTo>
                  <a:lnTo>
                    <a:pt x="1734" y="798"/>
                  </a:lnTo>
                  <a:lnTo>
                    <a:pt x="1744" y="796"/>
                  </a:lnTo>
                  <a:lnTo>
                    <a:pt x="1754" y="792"/>
                  </a:lnTo>
                  <a:lnTo>
                    <a:pt x="1754" y="792"/>
                  </a:lnTo>
                  <a:lnTo>
                    <a:pt x="1782" y="778"/>
                  </a:lnTo>
                  <a:lnTo>
                    <a:pt x="1810" y="762"/>
                  </a:lnTo>
                  <a:lnTo>
                    <a:pt x="1836" y="744"/>
                  </a:lnTo>
                  <a:lnTo>
                    <a:pt x="1860" y="724"/>
                  </a:lnTo>
                  <a:lnTo>
                    <a:pt x="1884" y="704"/>
                  </a:lnTo>
                  <a:lnTo>
                    <a:pt x="1906" y="682"/>
                  </a:lnTo>
                  <a:lnTo>
                    <a:pt x="1928" y="660"/>
                  </a:lnTo>
                  <a:lnTo>
                    <a:pt x="1948" y="636"/>
                  </a:lnTo>
                  <a:lnTo>
                    <a:pt x="1948" y="636"/>
                  </a:lnTo>
                  <a:lnTo>
                    <a:pt x="1962" y="688"/>
                  </a:lnTo>
                  <a:lnTo>
                    <a:pt x="1968" y="718"/>
                  </a:lnTo>
                  <a:lnTo>
                    <a:pt x="1972" y="750"/>
                  </a:lnTo>
                  <a:lnTo>
                    <a:pt x="1972" y="750"/>
                  </a:lnTo>
                  <a:lnTo>
                    <a:pt x="1974" y="758"/>
                  </a:lnTo>
                  <a:lnTo>
                    <a:pt x="1976" y="766"/>
                  </a:lnTo>
                  <a:lnTo>
                    <a:pt x="1980" y="774"/>
                  </a:lnTo>
                  <a:lnTo>
                    <a:pt x="1986" y="778"/>
                  </a:lnTo>
                  <a:lnTo>
                    <a:pt x="1992" y="784"/>
                  </a:lnTo>
                  <a:lnTo>
                    <a:pt x="2000" y="788"/>
                  </a:lnTo>
                  <a:lnTo>
                    <a:pt x="2008" y="790"/>
                  </a:lnTo>
                  <a:lnTo>
                    <a:pt x="2016" y="792"/>
                  </a:lnTo>
                  <a:lnTo>
                    <a:pt x="2016" y="792"/>
                  </a:lnTo>
                  <a:lnTo>
                    <a:pt x="2038" y="792"/>
                  </a:lnTo>
                  <a:lnTo>
                    <a:pt x="2038" y="792"/>
                  </a:lnTo>
                  <a:lnTo>
                    <a:pt x="2076" y="790"/>
                  </a:lnTo>
                  <a:lnTo>
                    <a:pt x="2116" y="786"/>
                  </a:lnTo>
                  <a:lnTo>
                    <a:pt x="2136" y="782"/>
                  </a:lnTo>
                  <a:lnTo>
                    <a:pt x="2156" y="778"/>
                  </a:lnTo>
                  <a:lnTo>
                    <a:pt x="2174" y="772"/>
                  </a:lnTo>
                  <a:lnTo>
                    <a:pt x="2194" y="764"/>
                  </a:lnTo>
                  <a:lnTo>
                    <a:pt x="2212" y="754"/>
                  </a:lnTo>
                  <a:lnTo>
                    <a:pt x="2230" y="742"/>
                  </a:lnTo>
                  <a:lnTo>
                    <a:pt x="2248" y="728"/>
                  </a:lnTo>
                  <a:lnTo>
                    <a:pt x="2262" y="712"/>
                  </a:lnTo>
                  <a:lnTo>
                    <a:pt x="2278" y="694"/>
                  </a:lnTo>
                  <a:lnTo>
                    <a:pt x="2290" y="672"/>
                  </a:lnTo>
                  <a:lnTo>
                    <a:pt x="2300" y="648"/>
                  </a:lnTo>
                  <a:lnTo>
                    <a:pt x="2310" y="622"/>
                  </a:lnTo>
                  <a:lnTo>
                    <a:pt x="2310" y="622"/>
                  </a:lnTo>
                  <a:lnTo>
                    <a:pt x="2318" y="582"/>
                  </a:lnTo>
                  <a:lnTo>
                    <a:pt x="2324" y="536"/>
                  </a:lnTo>
                  <a:lnTo>
                    <a:pt x="2330" y="484"/>
                  </a:lnTo>
                  <a:lnTo>
                    <a:pt x="2334" y="428"/>
                  </a:lnTo>
                  <a:lnTo>
                    <a:pt x="2338" y="306"/>
                  </a:lnTo>
                  <a:lnTo>
                    <a:pt x="2342" y="188"/>
                  </a:lnTo>
                  <a:lnTo>
                    <a:pt x="2342" y="186"/>
                  </a:lnTo>
                  <a:lnTo>
                    <a:pt x="2342" y="186"/>
                  </a:lnTo>
                  <a:lnTo>
                    <a:pt x="2340" y="178"/>
                  </a:lnTo>
                  <a:lnTo>
                    <a:pt x="2338" y="170"/>
                  </a:lnTo>
                  <a:lnTo>
                    <a:pt x="2334" y="162"/>
                  </a:lnTo>
                  <a:lnTo>
                    <a:pt x="2328" y="154"/>
                  </a:lnTo>
                  <a:lnTo>
                    <a:pt x="2328" y="154"/>
                  </a:lnTo>
                  <a:lnTo>
                    <a:pt x="2322" y="148"/>
                  </a:lnTo>
                  <a:lnTo>
                    <a:pt x="2314" y="144"/>
                  </a:lnTo>
                  <a:lnTo>
                    <a:pt x="2306" y="142"/>
                  </a:lnTo>
                  <a:lnTo>
                    <a:pt x="2296" y="140"/>
                  </a:lnTo>
                  <a:lnTo>
                    <a:pt x="2296" y="140"/>
                  </a:lnTo>
                  <a:close/>
                  <a:moveTo>
                    <a:pt x="2068" y="368"/>
                  </a:moveTo>
                  <a:lnTo>
                    <a:pt x="2102" y="368"/>
                  </a:lnTo>
                  <a:lnTo>
                    <a:pt x="2102" y="368"/>
                  </a:lnTo>
                  <a:lnTo>
                    <a:pt x="2098" y="414"/>
                  </a:lnTo>
                  <a:lnTo>
                    <a:pt x="2096" y="460"/>
                  </a:lnTo>
                  <a:lnTo>
                    <a:pt x="2090" y="500"/>
                  </a:lnTo>
                  <a:lnTo>
                    <a:pt x="2086" y="528"/>
                  </a:lnTo>
                  <a:lnTo>
                    <a:pt x="2086" y="528"/>
                  </a:lnTo>
                  <a:lnTo>
                    <a:pt x="2080" y="550"/>
                  </a:lnTo>
                  <a:lnTo>
                    <a:pt x="2078" y="554"/>
                  </a:lnTo>
                  <a:lnTo>
                    <a:pt x="2078" y="554"/>
                  </a:lnTo>
                  <a:lnTo>
                    <a:pt x="2070" y="556"/>
                  </a:lnTo>
                  <a:lnTo>
                    <a:pt x="2060" y="558"/>
                  </a:lnTo>
                  <a:lnTo>
                    <a:pt x="2042" y="558"/>
                  </a:lnTo>
                  <a:lnTo>
                    <a:pt x="2042" y="558"/>
                  </a:lnTo>
                  <a:lnTo>
                    <a:pt x="2018" y="558"/>
                  </a:lnTo>
                  <a:lnTo>
                    <a:pt x="2002" y="554"/>
                  </a:lnTo>
                  <a:lnTo>
                    <a:pt x="2002" y="554"/>
                  </a:lnTo>
                  <a:lnTo>
                    <a:pt x="2022" y="510"/>
                  </a:lnTo>
                  <a:lnTo>
                    <a:pt x="2040" y="466"/>
                  </a:lnTo>
                  <a:lnTo>
                    <a:pt x="2056" y="418"/>
                  </a:lnTo>
                  <a:lnTo>
                    <a:pt x="2068" y="368"/>
                  </a:lnTo>
                  <a:lnTo>
                    <a:pt x="2068" y="368"/>
                  </a:lnTo>
                  <a:close/>
                  <a:moveTo>
                    <a:pt x="464" y="576"/>
                  </a:moveTo>
                  <a:lnTo>
                    <a:pt x="464" y="576"/>
                  </a:lnTo>
                  <a:lnTo>
                    <a:pt x="464" y="572"/>
                  </a:lnTo>
                  <a:lnTo>
                    <a:pt x="464" y="594"/>
                  </a:lnTo>
                  <a:lnTo>
                    <a:pt x="464" y="594"/>
                  </a:lnTo>
                  <a:lnTo>
                    <a:pt x="464" y="594"/>
                  </a:lnTo>
                  <a:lnTo>
                    <a:pt x="464" y="594"/>
                  </a:lnTo>
                  <a:lnTo>
                    <a:pt x="464" y="586"/>
                  </a:lnTo>
                  <a:lnTo>
                    <a:pt x="464" y="576"/>
                  </a:lnTo>
                  <a:lnTo>
                    <a:pt x="464" y="576"/>
                  </a:lnTo>
                  <a:close/>
                  <a:moveTo>
                    <a:pt x="828" y="416"/>
                  </a:moveTo>
                  <a:lnTo>
                    <a:pt x="828" y="416"/>
                  </a:lnTo>
                  <a:lnTo>
                    <a:pt x="842" y="376"/>
                  </a:lnTo>
                  <a:lnTo>
                    <a:pt x="842" y="376"/>
                  </a:lnTo>
                  <a:lnTo>
                    <a:pt x="844" y="362"/>
                  </a:lnTo>
                  <a:lnTo>
                    <a:pt x="842" y="350"/>
                  </a:lnTo>
                  <a:lnTo>
                    <a:pt x="836" y="338"/>
                  </a:lnTo>
                  <a:lnTo>
                    <a:pt x="828" y="328"/>
                  </a:lnTo>
                  <a:lnTo>
                    <a:pt x="776" y="284"/>
                  </a:lnTo>
                  <a:lnTo>
                    <a:pt x="776" y="284"/>
                  </a:lnTo>
                  <a:lnTo>
                    <a:pt x="770" y="280"/>
                  </a:lnTo>
                  <a:lnTo>
                    <a:pt x="764" y="276"/>
                  </a:lnTo>
                  <a:lnTo>
                    <a:pt x="750" y="274"/>
                  </a:lnTo>
                  <a:lnTo>
                    <a:pt x="750" y="274"/>
                  </a:lnTo>
                  <a:lnTo>
                    <a:pt x="748" y="264"/>
                  </a:lnTo>
                  <a:lnTo>
                    <a:pt x="744" y="256"/>
                  </a:lnTo>
                  <a:lnTo>
                    <a:pt x="740" y="250"/>
                  </a:lnTo>
                  <a:lnTo>
                    <a:pt x="734" y="244"/>
                  </a:lnTo>
                  <a:lnTo>
                    <a:pt x="734" y="244"/>
                  </a:lnTo>
                  <a:lnTo>
                    <a:pt x="762" y="214"/>
                  </a:lnTo>
                  <a:lnTo>
                    <a:pt x="794" y="176"/>
                  </a:lnTo>
                  <a:lnTo>
                    <a:pt x="794" y="194"/>
                  </a:lnTo>
                  <a:lnTo>
                    <a:pt x="794" y="194"/>
                  </a:lnTo>
                  <a:lnTo>
                    <a:pt x="794" y="202"/>
                  </a:lnTo>
                  <a:lnTo>
                    <a:pt x="796" y="210"/>
                  </a:lnTo>
                  <a:lnTo>
                    <a:pt x="800" y="218"/>
                  </a:lnTo>
                  <a:lnTo>
                    <a:pt x="806" y="224"/>
                  </a:lnTo>
                  <a:lnTo>
                    <a:pt x="810" y="230"/>
                  </a:lnTo>
                  <a:lnTo>
                    <a:pt x="818" y="234"/>
                  </a:lnTo>
                  <a:lnTo>
                    <a:pt x="824" y="238"/>
                  </a:lnTo>
                  <a:lnTo>
                    <a:pt x="832" y="240"/>
                  </a:lnTo>
                  <a:lnTo>
                    <a:pt x="832" y="240"/>
                  </a:lnTo>
                  <a:lnTo>
                    <a:pt x="834" y="250"/>
                  </a:lnTo>
                  <a:lnTo>
                    <a:pt x="838" y="260"/>
                  </a:lnTo>
                  <a:lnTo>
                    <a:pt x="838" y="260"/>
                  </a:lnTo>
                  <a:lnTo>
                    <a:pt x="848" y="280"/>
                  </a:lnTo>
                  <a:lnTo>
                    <a:pt x="854" y="300"/>
                  </a:lnTo>
                  <a:lnTo>
                    <a:pt x="860" y="318"/>
                  </a:lnTo>
                  <a:lnTo>
                    <a:pt x="862" y="336"/>
                  </a:lnTo>
                  <a:lnTo>
                    <a:pt x="862" y="336"/>
                  </a:lnTo>
                  <a:lnTo>
                    <a:pt x="856" y="342"/>
                  </a:lnTo>
                  <a:lnTo>
                    <a:pt x="850" y="348"/>
                  </a:lnTo>
                  <a:lnTo>
                    <a:pt x="846" y="356"/>
                  </a:lnTo>
                  <a:lnTo>
                    <a:pt x="844" y="364"/>
                  </a:lnTo>
                  <a:lnTo>
                    <a:pt x="844" y="364"/>
                  </a:lnTo>
                  <a:lnTo>
                    <a:pt x="844" y="374"/>
                  </a:lnTo>
                  <a:lnTo>
                    <a:pt x="846" y="384"/>
                  </a:lnTo>
                  <a:lnTo>
                    <a:pt x="848" y="394"/>
                  </a:lnTo>
                  <a:lnTo>
                    <a:pt x="854" y="402"/>
                  </a:lnTo>
                  <a:lnTo>
                    <a:pt x="854" y="402"/>
                  </a:lnTo>
                  <a:lnTo>
                    <a:pt x="866" y="414"/>
                  </a:lnTo>
                  <a:lnTo>
                    <a:pt x="840" y="414"/>
                  </a:lnTo>
                  <a:lnTo>
                    <a:pt x="840" y="414"/>
                  </a:lnTo>
                  <a:lnTo>
                    <a:pt x="828" y="416"/>
                  </a:lnTo>
                  <a:lnTo>
                    <a:pt x="828" y="416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67"/>
            <p:cNvSpPr/>
            <p:nvPr/>
          </p:nvSpPr>
          <p:spPr>
            <a:xfrm>
              <a:off x="4681440" y="1012680"/>
              <a:ext cx="2327400" cy="1187280"/>
            </a:xfrm>
            <a:custGeom>
              <a:avLst/>
              <a:gdLst>
                <a:gd name="textAreaLeft" fmla="*/ 0 w 2327400"/>
                <a:gd name="textAreaRight" fmla="*/ 2327760 w 2327400"/>
                <a:gd name="textAreaTop" fmla="*/ 0 h 1187280"/>
                <a:gd name="textAreaBottom" fmla="*/ 1187640 h 1187280"/>
              </a:gdLst>
              <a:ahLst/>
              <a:rect l="textAreaLeft" t="textAreaTop" r="textAreaRight" b="textAreaBottom"/>
              <a:pathLst>
                <a:path w="1466" h="748">
                  <a:moveTo>
                    <a:pt x="1422" y="256"/>
                  </a:moveTo>
                  <a:lnTo>
                    <a:pt x="742" y="256"/>
                  </a:lnTo>
                  <a:lnTo>
                    <a:pt x="742" y="256"/>
                  </a:lnTo>
                  <a:lnTo>
                    <a:pt x="734" y="256"/>
                  </a:lnTo>
                  <a:lnTo>
                    <a:pt x="726" y="260"/>
                  </a:lnTo>
                  <a:lnTo>
                    <a:pt x="718" y="264"/>
                  </a:lnTo>
                  <a:lnTo>
                    <a:pt x="710" y="268"/>
                  </a:lnTo>
                  <a:lnTo>
                    <a:pt x="706" y="276"/>
                  </a:lnTo>
                  <a:lnTo>
                    <a:pt x="700" y="284"/>
                  </a:lnTo>
                  <a:lnTo>
                    <a:pt x="698" y="292"/>
                  </a:lnTo>
                  <a:lnTo>
                    <a:pt x="698" y="302"/>
                  </a:lnTo>
                  <a:lnTo>
                    <a:pt x="698" y="338"/>
                  </a:lnTo>
                  <a:lnTo>
                    <a:pt x="698" y="338"/>
                  </a:lnTo>
                  <a:lnTo>
                    <a:pt x="662" y="266"/>
                  </a:lnTo>
                  <a:lnTo>
                    <a:pt x="638" y="206"/>
                  </a:lnTo>
                  <a:lnTo>
                    <a:pt x="638" y="206"/>
                  </a:lnTo>
                  <a:lnTo>
                    <a:pt x="632" y="196"/>
                  </a:lnTo>
                  <a:lnTo>
                    <a:pt x="622" y="188"/>
                  </a:lnTo>
                  <a:lnTo>
                    <a:pt x="612" y="182"/>
                  </a:lnTo>
                  <a:lnTo>
                    <a:pt x="602" y="178"/>
                  </a:lnTo>
                  <a:lnTo>
                    <a:pt x="602" y="178"/>
                  </a:lnTo>
                  <a:lnTo>
                    <a:pt x="590" y="178"/>
                  </a:lnTo>
                  <a:lnTo>
                    <a:pt x="578" y="182"/>
                  </a:lnTo>
                  <a:lnTo>
                    <a:pt x="568" y="188"/>
                  </a:lnTo>
                  <a:lnTo>
                    <a:pt x="560" y="196"/>
                  </a:lnTo>
                  <a:lnTo>
                    <a:pt x="560" y="196"/>
                  </a:lnTo>
                  <a:lnTo>
                    <a:pt x="532" y="230"/>
                  </a:lnTo>
                  <a:lnTo>
                    <a:pt x="500" y="262"/>
                  </a:lnTo>
                  <a:lnTo>
                    <a:pt x="464" y="298"/>
                  </a:lnTo>
                  <a:lnTo>
                    <a:pt x="424" y="332"/>
                  </a:lnTo>
                  <a:lnTo>
                    <a:pt x="380" y="364"/>
                  </a:lnTo>
                  <a:lnTo>
                    <a:pt x="336" y="394"/>
                  </a:lnTo>
                  <a:lnTo>
                    <a:pt x="290" y="422"/>
                  </a:lnTo>
                  <a:lnTo>
                    <a:pt x="246" y="444"/>
                  </a:lnTo>
                  <a:lnTo>
                    <a:pt x="246" y="104"/>
                  </a:lnTo>
                  <a:lnTo>
                    <a:pt x="246" y="104"/>
                  </a:lnTo>
                  <a:lnTo>
                    <a:pt x="252" y="94"/>
                  </a:lnTo>
                  <a:lnTo>
                    <a:pt x="258" y="84"/>
                  </a:lnTo>
                  <a:lnTo>
                    <a:pt x="262" y="74"/>
                  </a:lnTo>
                  <a:lnTo>
                    <a:pt x="264" y="62"/>
                  </a:lnTo>
                  <a:lnTo>
                    <a:pt x="264" y="62"/>
                  </a:lnTo>
                  <a:lnTo>
                    <a:pt x="262" y="54"/>
                  </a:lnTo>
                  <a:lnTo>
                    <a:pt x="260" y="44"/>
                  </a:lnTo>
                  <a:lnTo>
                    <a:pt x="256" y="34"/>
                  </a:lnTo>
                  <a:lnTo>
                    <a:pt x="250" y="26"/>
                  </a:lnTo>
                  <a:lnTo>
                    <a:pt x="242" y="18"/>
                  </a:lnTo>
                  <a:lnTo>
                    <a:pt x="232" y="12"/>
                  </a:lnTo>
                  <a:lnTo>
                    <a:pt x="218" y="8"/>
                  </a:lnTo>
                  <a:lnTo>
                    <a:pt x="200" y="6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6" y="6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2" y="18"/>
                  </a:lnTo>
                  <a:lnTo>
                    <a:pt x="8" y="26"/>
                  </a:lnTo>
                  <a:lnTo>
                    <a:pt x="6" y="36"/>
                  </a:lnTo>
                  <a:lnTo>
                    <a:pt x="4" y="44"/>
                  </a:lnTo>
                  <a:lnTo>
                    <a:pt x="4" y="568"/>
                  </a:lnTo>
                  <a:lnTo>
                    <a:pt x="4" y="568"/>
                  </a:lnTo>
                  <a:lnTo>
                    <a:pt x="4" y="586"/>
                  </a:lnTo>
                  <a:lnTo>
                    <a:pt x="2" y="598"/>
                  </a:lnTo>
                  <a:lnTo>
                    <a:pt x="2" y="598"/>
                  </a:lnTo>
                  <a:lnTo>
                    <a:pt x="0" y="610"/>
                  </a:lnTo>
                  <a:lnTo>
                    <a:pt x="2" y="620"/>
                  </a:lnTo>
                  <a:lnTo>
                    <a:pt x="6" y="632"/>
                  </a:lnTo>
                  <a:lnTo>
                    <a:pt x="14" y="642"/>
                  </a:lnTo>
                  <a:lnTo>
                    <a:pt x="108" y="734"/>
                  </a:lnTo>
                  <a:lnTo>
                    <a:pt x="108" y="734"/>
                  </a:lnTo>
                  <a:lnTo>
                    <a:pt x="114" y="740"/>
                  </a:lnTo>
                  <a:lnTo>
                    <a:pt x="122" y="744"/>
                  </a:lnTo>
                  <a:lnTo>
                    <a:pt x="132" y="748"/>
                  </a:lnTo>
                  <a:lnTo>
                    <a:pt x="140" y="748"/>
                  </a:lnTo>
                  <a:lnTo>
                    <a:pt x="140" y="748"/>
                  </a:lnTo>
                  <a:lnTo>
                    <a:pt x="150" y="748"/>
                  </a:lnTo>
                  <a:lnTo>
                    <a:pt x="160" y="744"/>
                  </a:lnTo>
                  <a:lnTo>
                    <a:pt x="160" y="744"/>
                  </a:lnTo>
                  <a:lnTo>
                    <a:pt x="216" y="718"/>
                  </a:lnTo>
                  <a:lnTo>
                    <a:pt x="216" y="718"/>
                  </a:lnTo>
                  <a:lnTo>
                    <a:pt x="288" y="684"/>
                  </a:lnTo>
                  <a:lnTo>
                    <a:pt x="288" y="684"/>
                  </a:lnTo>
                  <a:lnTo>
                    <a:pt x="334" y="662"/>
                  </a:lnTo>
                  <a:lnTo>
                    <a:pt x="382" y="638"/>
                  </a:lnTo>
                  <a:lnTo>
                    <a:pt x="432" y="610"/>
                  </a:lnTo>
                  <a:lnTo>
                    <a:pt x="482" y="578"/>
                  </a:lnTo>
                  <a:lnTo>
                    <a:pt x="536" y="540"/>
                  </a:lnTo>
                  <a:lnTo>
                    <a:pt x="588" y="500"/>
                  </a:lnTo>
                  <a:lnTo>
                    <a:pt x="642" y="452"/>
                  </a:lnTo>
                  <a:lnTo>
                    <a:pt x="668" y="426"/>
                  </a:lnTo>
                  <a:lnTo>
                    <a:pt x="696" y="400"/>
                  </a:lnTo>
                  <a:lnTo>
                    <a:pt x="696" y="400"/>
                  </a:lnTo>
                  <a:lnTo>
                    <a:pt x="698" y="396"/>
                  </a:lnTo>
                  <a:lnTo>
                    <a:pt x="698" y="442"/>
                  </a:lnTo>
                  <a:lnTo>
                    <a:pt x="698" y="442"/>
                  </a:lnTo>
                  <a:lnTo>
                    <a:pt x="698" y="450"/>
                  </a:lnTo>
                  <a:lnTo>
                    <a:pt x="700" y="460"/>
                  </a:lnTo>
                  <a:lnTo>
                    <a:pt x="706" y="466"/>
                  </a:lnTo>
                  <a:lnTo>
                    <a:pt x="710" y="474"/>
                  </a:lnTo>
                  <a:lnTo>
                    <a:pt x="718" y="480"/>
                  </a:lnTo>
                  <a:lnTo>
                    <a:pt x="726" y="484"/>
                  </a:lnTo>
                  <a:lnTo>
                    <a:pt x="734" y="486"/>
                  </a:lnTo>
                  <a:lnTo>
                    <a:pt x="742" y="486"/>
                  </a:lnTo>
                  <a:lnTo>
                    <a:pt x="1422" y="486"/>
                  </a:lnTo>
                  <a:lnTo>
                    <a:pt x="1422" y="486"/>
                  </a:lnTo>
                  <a:lnTo>
                    <a:pt x="1430" y="486"/>
                  </a:lnTo>
                  <a:lnTo>
                    <a:pt x="1438" y="484"/>
                  </a:lnTo>
                  <a:lnTo>
                    <a:pt x="1446" y="480"/>
                  </a:lnTo>
                  <a:lnTo>
                    <a:pt x="1454" y="474"/>
                  </a:lnTo>
                  <a:lnTo>
                    <a:pt x="1458" y="466"/>
                  </a:lnTo>
                  <a:lnTo>
                    <a:pt x="1464" y="460"/>
                  </a:lnTo>
                  <a:lnTo>
                    <a:pt x="1466" y="450"/>
                  </a:lnTo>
                  <a:lnTo>
                    <a:pt x="1466" y="442"/>
                  </a:lnTo>
                  <a:lnTo>
                    <a:pt x="1466" y="302"/>
                  </a:lnTo>
                  <a:lnTo>
                    <a:pt x="1466" y="302"/>
                  </a:lnTo>
                  <a:lnTo>
                    <a:pt x="1466" y="292"/>
                  </a:lnTo>
                  <a:lnTo>
                    <a:pt x="1464" y="284"/>
                  </a:lnTo>
                  <a:lnTo>
                    <a:pt x="1458" y="276"/>
                  </a:lnTo>
                  <a:lnTo>
                    <a:pt x="1454" y="268"/>
                  </a:lnTo>
                  <a:lnTo>
                    <a:pt x="1446" y="264"/>
                  </a:lnTo>
                  <a:lnTo>
                    <a:pt x="1438" y="260"/>
                  </a:lnTo>
                  <a:lnTo>
                    <a:pt x="1430" y="256"/>
                  </a:lnTo>
                  <a:lnTo>
                    <a:pt x="1422" y="256"/>
                  </a:lnTo>
                  <a:lnTo>
                    <a:pt x="1422" y="256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68"/>
            <p:cNvSpPr/>
            <p:nvPr/>
          </p:nvSpPr>
          <p:spPr>
            <a:xfrm>
              <a:off x="855360" y="1050840"/>
              <a:ext cx="1193760" cy="112068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1120680"/>
                <a:gd name="textAreaBottom" fmla="*/ 1121040 h 1120680"/>
              </a:gdLst>
              <a:ahLst/>
              <a:rect l="textAreaLeft" t="textAreaTop" r="textAreaRight" b="textAreaBottom"/>
              <a:pathLst>
                <a:path w="752" h="706">
                  <a:moveTo>
                    <a:pt x="376" y="398"/>
                  </a:moveTo>
                  <a:lnTo>
                    <a:pt x="376" y="500"/>
                  </a:lnTo>
                  <a:lnTo>
                    <a:pt x="252" y="500"/>
                  </a:lnTo>
                  <a:lnTo>
                    <a:pt x="252" y="544"/>
                  </a:lnTo>
                  <a:lnTo>
                    <a:pt x="252" y="544"/>
                  </a:lnTo>
                  <a:lnTo>
                    <a:pt x="296" y="538"/>
                  </a:lnTo>
                  <a:lnTo>
                    <a:pt x="372" y="526"/>
                  </a:lnTo>
                  <a:lnTo>
                    <a:pt x="372" y="526"/>
                  </a:lnTo>
                  <a:lnTo>
                    <a:pt x="368" y="538"/>
                  </a:lnTo>
                  <a:lnTo>
                    <a:pt x="364" y="552"/>
                  </a:lnTo>
                  <a:lnTo>
                    <a:pt x="362" y="572"/>
                  </a:lnTo>
                  <a:lnTo>
                    <a:pt x="362" y="600"/>
                  </a:lnTo>
                  <a:lnTo>
                    <a:pt x="362" y="600"/>
                  </a:lnTo>
                  <a:lnTo>
                    <a:pt x="362" y="630"/>
                  </a:lnTo>
                  <a:lnTo>
                    <a:pt x="362" y="630"/>
                  </a:lnTo>
                  <a:lnTo>
                    <a:pt x="290" y="646"/>
                  </a:lnTo>
                  <a:lnTo>
                    <a:pt x="198" y="660"/>
                  </a:lnTo>
                  <a:lnTo>
                    <a:pt x="112" y="674"/>
                  </a:lnTo>
                  <a:lnTo>
                    <a:pt x="48" y="682"/>
                  </a:lnTo>
                  <a:lnTo>
                    <a:pt x="48" y="682"/>
                  </a:lnTo>
                  <a:lnTo>
                    <a:pt x="46" y="690"/>
                  </a:lnTo>
                  <a:lnTo>
                    <a:pt x="44" y="698"/>
                  </a:lnTo>
                  <a:lnTo>
                    <a:pt x="38" y="702"/>
                  </a:lnTo>
                  <a:lnTo>
                    <a:pt x="32" y="704"/>
                  </a:lnTo>
                  <a:lnTo>
                    <a:pt x="32" y="704"/>
                  </a:lnTo>
                  <a:lnTo>
                    <a:pt x="28" y="702"/>
                  </a:lnTo>
                  <a:lnTo>
                    <a:pt x="24" y="700"/>
                  </a:lnTo>
                  <a:lnTo>
                    <a:pt x="22" y="696"/>
                  </a:lnTo>
                  <a:lnTo>
                    <a:pt x="20" y="692"/>
                  </a:lnTo>
                  <a:lnTo>
                    <a:pt x="0" y="570"/>
                  </a:lnTo>
                  <a:lnTo>
                    <a:pt x="0" y="570"/>
                  </a:lnTo>
                  <a:lnTo>
                    <a:pt x="64" y="566"/>
                  </a:lnTo>
                  <a:lnTo>
                    <a:pt x="138" y="558"/>
                  </a:lnTo>
                  <a:lnTo>
                    <a:pt x="138" y="500"/>
                  </a:lnTo>
                  <a:lnTo>
                    <a:pt x="16" y="500"/>
                  </a:lnTo>
                  <a:lnTo>
                    <a:pt x="16" y="398"/>
                  </a:lnTo>
                  <a:lnTo>
                    <a:pt x="138" y="398"/>
                  </a:lnTo>
                  <a:lnTo>
                    <a:pt x="138" y="366"/>
                  </a:lnTo>
                  <a:lnTo>
                    <a:pt x="26" y="366"/>
                  </a:lnTo>
                  <a:lnTo>
                    <a:pt x="26" y="0"/>
                  </a:lnTo>
                  <a:lnTo>
                    <a:pt x="364" y="0"/>
                  </a:lnTo>
                  <a:lnTo>
                    <a:pt x="364" y="366"/>
                  </a:lnTo>
                  <a:lnTo>
                    <a:pt x="252" y="366"/>
                  </a:lnTo>
                  <a:lnTo>
                    <a:pt x="252" y="398"/>
                  </a:lnTo>
                  <a:lnTo>
                    <a:pt x="376" y="398"/>
                  </a:lnTo>
                  <a:close/>
                  <a:moveTo>
                    <a:pt x="150" y="142"/>
                  </a:moveTo>
                  <a:lnTo>
                    <a:pt x="150" y="96"/>
                  </a:lnTo>
                  <a:lnTo>
                    <a:pt x="118" y="96"/>
                  </a:lnTo>
                  <a:lnTo>
                    <a:pt x="118" y="142"/>
                  </a:lnTo>
                  <a:lnTo>
                    <a:pt x="150" y="142"/>
                  </a:lnTo>
                  <a:close/>
                  <a:moveTo>
                    <a:pt x="118" y="224"/>
                  </a:moveTo>
                  <a:lnTo>
                    <a:pt x="118" y="270"/>
                  </a:lnTo>
                  <a:lnTo>
                    <a:pt x="150" y="270"/>
                  </a:lnTo>
                  <a:lnTo>
                    <a:pt x="150" y="224"/>
                  </a:lnTo>
                  <a:lnTo>
                    <a:pt x="118" y="224"/>
                  </a:lnTo>
                  <a:close/>
                  <a:moveTo>
                    <a:pt x="276" y="142"/>
                  </a:moveTo>
                  <a:lnTo>
                    <a:pt x="276" y="96"/>
                  </a:lnTo>
                  <a:lnTo>
                    <a:pt x="244" y="96"/>
                  </a:lnTo>
                  <a:lnTo>
                    <a:pt x="244" y="142"/>
                  </a:lnTo>
                  <a:lnTo>
                    <a:pt x="276" y="142"/>
                  </a:lnTo>
                  <a:close/>
                  <a:moveTo>
                    <a:pt x="244" y="224"/>
                  </a:moveTo>
                  <a:lnTo>
                    <a:pt x="244" y="270"/>
                  </a:lnTo>
                  <a:lnTo>
                    <a:pt x="276" y="270"/>
                  </a:lnTo>
                  <a:lnTo>
                    <a:pt x="276" y="224"/>
                  </a:lnTo>
                  <a:lnTo>
                    <a:pt x="244" y="224"/>
                  </a:lnTo>
                  <a:close/>
                  <a:moveTo>
                    <a:pt x="702" y="258"/>
                  </a:moveTo>
                  <a:lnTo>
                    <a:pt x="752" y="302"/>
                  </a:lnTo>
                  <a:lnTo>
                    <a:pt x="752" y="302"/>
                  </a:lnTo>
                  <a:lnTo>
                    <a:pt x="732" y="356"/>
                  </a:lnTo>
                  <a:lnTo>
                    <a:pt x="708" y="418"/>
                  </a:lnTo>
                  <a:lnTo>
                    <a:pt x="684" y="472"/>
                  </a:lnTo>
                  <a:lnTo>
                    <a:pt x="666" y="506"/>
                  </a:lnTo>
                  <a:lnTo>
                    <a:pt x="666" y="506"/>
                  </a:lnTo>
                  <a:lnTo>
                    <a:pt x="644" y="494"/>
                  </a:lnTo>
                  <a:lnTo>
                    <a:pt x="622" y="484"/>
                  </a:lnTo>
                  <a:lnTo>
                    <a:pt x="590" y="472"/>
                  </a:lnTo>
                  <a:lnTo>
                    <a:pt x="590" y="610"/>
                  </a:lnTo>
                  <a:lnTo>
                    <a:pt x="590" y="610"/>
                  </a:lnTo>
                  <a:lnTo>
                    <a:pt x="590" y="630"/>
                  </a:lnTo>
                  <a:lnTo>
                    <a:pt x="586" y="646"/>
                  </a:lnTo>
                  <a:lnTo>
                    <a:pt x="582" y="656"/>
                  </a:lnTo>
                  <a:lnTo>
                    <a:pt x="578" y="664"/>
                  </a:lnTo>
                  <a:lnTo>
                    <a:pt x="572" y="670"/>
                  </a:lnTo>
                  <a:lnTo>
                    <a:pt x="566" y="678"/>
                  </a:lnTo>
                  <a:lnTo>
                    <a:pt x="558" y="684"/>
                  </a:lnTo>
                  <a:lnTo>
                    <a:pt x="546" y="690"/>
                  </a:lnTo>
                  <a:lnTo>
                    <a:pt x="534" y="694"/>
                  </a:lnTo>
                  <a:lnTo>
                    <a:pt x="520" y="698"/>
                  </a:lnTo>
                  <a:lnTo>
                    <a:pt x="504" y="702"/>
                  </a:lnTo>
                  <a:lnTo>
                    <a:pt x="486" y="704"/>
                  </a:lnTo>
                  <a:lnTo>
                    <a:pt x="442" y="706"/>
                  </a:lnTo>
                  <a:lnTo>
                    <a:pt x="442" y="706"/>
                  </a:lnTo>
                  <a:lnTo>
                    <a:pt x="418" y="706"/>
                  </a:lnTo>
                  <a:lnTo>
                    <a:pt x="418" y="706"/>
                  </a:lnTo>
                  <a:lnTo>
                    <a:pt x="416" y="674"/>
                  </a:lnTo>
                  <a:lnTo>
                    <a:pt x="414" y="658"/>
                  </a:lnTo>
                  <a:lnTo>
                    <a:pt x="410" y="640"/>
                  </a:lnTo>
                  <a:lnTo>
                    <a:pt x="404" y="624"/>
                  </a:lnTo>
                  <a:lnTo>
                    <a:pt x="398" y="606"/>
                  </a:lnTo>
                  <a:lnTo>
                    <a:pt x="390" y="590"/>
                  </a:lnTo>
                  <a:lnTo>
                    <a:pt x="380" y="574"/>
                  </a:lnTo>
                  <a:lnTo>
                    <a:pt x="380" y="574"/>
                  </a:lnTo>
                  <a:lnTo>
                    <a:pt x="414" y="580"/>
                  </a:lnTo>
                  <a:lnTo>
                    <a:pt x="438" y="582"/>
                  </a:lnTo>
                  <a:lnTo>
                    <a:pt x="438" y="582"/>
                  </a:lnTo>
                  <a:lnTo>
                    <a:pt x="446" y="582"/>
                  </a:lnTo>
                  <a:lnTo>
                    <a:pt x="454" y="578"/>
                  </a:lnTo>
                  <a:lnTo>
                    <a:pt x="458" y="576"/>
                  </a:lnTo>
                  <a:lnTo>
                    <a:pt x="462" y="572"/>
                  </a:lnTo>
                  <a:lnTo>
                    <a:pt x="464" y="564"/>
                  </a:lnTo>
                  <a:lnTo>
                    <a:pt x="464" y="556"/>
                  </a:lnTo>
                  <a:lnTo>
                    <a:pt x="464" y="364"/>
                  </a:lnTo>
                  <a:lnTo>
                    <a:pt x="380" y="364"/>
                  </a:lnTo>
                  <a:lnTo>
                    <a:pt x="380" y="258"/>
                  </a:lnTo>
                  <a:lnTo>
                    <a:pt x="512" y="258"/>
                  </a:lnTo>
                  <a:lnTo>
                    <a:pt x="512" y="258"/>
                  </a:lnTo>
                  <a:lnTo>
                    <a:pt x="476" y="234"/>
                  </a:lnTo>
                  <a:lnTo>
                    <a:pt x="444" y="214"/>
                  </a:lnTo>
                  <a:lnTo>
                    <a:pt x="404" y="192"/>
                  </a:lnTo>
                  <a:lnTo>
                    <a:pt x="470" y="114"/>
                  </a:lnTo>
                  <a:lnTo>
                    <a:pt x="470" y="114"/>
                  </a:lnTo>
                  <a:lnTo>
                    <a:pt x="522" y="140"/>
                  </a:lnTo>
                  <a:lnTo>
                    <a:pt x="522" y="140"/>
                  </a:lnTo>
                  <a:lnTo>
                    <a:pt x="540" y="122"/>
                  </a:lnTo>
                  <a:lnTo>
                    <a:pt x="552" y="106"/>
                  </a:lnTo>
                  <a:lnTo>
                    <a:pt x="392" y="106"/>
                  </a:lnTo>
                  <a:lnTo>
                    <a:pt x="392" y="0"/>
                  </a:lnTo>
                  <a:lnTo>
                    <a:pt x="690" y="0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02" y="100"/>
                  </a:lnTo>
                  <a:lnTo>
                    <a:pt x="670" y="136"/>
                  </a:lnTo>
                  <a:lnTo>
                    <a:pt x="640" y="166"/>
                  </a:lnTo>
                  <a:lnTo>
                    <a:pt x="616" y="190"/>
                  </a:lnTo>
                  <a:lnTo>
                    <a:pt x="616" y="190"/>
                  </a:lnTo>
                  <a:lnTo>
                    <a:pt x="644" y="208"/>
                  </a:lnTo>
                  <a:lnTo>
                    <a:pt x="660" y="220"/>
                  </a:lnTo>
                  <a:lnTo>
                    <a:pt x="660" y="220"/>
                  </a:lnTo>
                  <a:lnTo>
                    <a:pt x="624" y="258"/>
                  </a:lnTo>
                  <a:lnTo>
                    <a:pt x="702" y="258"/>
                  </a:lnTo>
                  <a:close/>
                  <a:moveTo>
                    <a:pt x="582" y="444"/>
                  </a:moveTo>
                  <a:lnTo>
                    <a:pt x="582" y="444"/>
                  </a:lnTo>
                  <a:lnTo>
                    <a:pt x="596" y="416"/>
                  </a:lnTo>
                  <a:lnTo>
                    <a:pt x="608" y="394"/>
                  </a:lnTo>
                  <a:lnTo>
                    <a:pt x="620" y="364"/>
                  </a:lnTo>
                  <a:lnTo>
                    <a:pt x="582" y="364"/>
                  </a:lnTo>
                  <a:lnTo>
                    <a:pt x="582" y="4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69"/>
            <p:cNvSpPr/>
            <p:nvPr/>
          </p:nvSpPr>
          <p:spPr>
            <a:xfrm>
              <a:off x="2084400" y="1028520"/>
              <a:ext cx="1206360" cy="1143000"/>
            </a:xfrm>
            <a:custGeom>
              <a:avLst/>
              <a:gdLst>
                <a:gd name="textAreaLeft" fmla="*/ 0 w 1206360"/>
                <a:gd name="textAreaRight" fmla="*/ 1206720 w 12063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760" h="720">
                  <a:moveTo>
                    <a:pt x="316" y="572"/>
                  </a:moveTo>
                  <a:lnTo>
                    <a:pt x="316" y="572"/>
                  </a:lnTo>
                  <a:lnTo>
                    <a:pt x="280" y="604"/>
                  </a:lnTo>
                  <a:lnTo>
                    <a:pt x="244" y="632"/>
                  </a:lnTo>
                  <a:lnTo>
                    <a:pt x="210" y="656"/>
                  </a:lnTo>
                  <a:lnTo>
                    <a:pt x="178" y="676"/>
                  </a:lnTo>
                  <a:lnTo>
                    <a:pt x="148" y="692"/>
                  </a:lnTo>
                  <a:lnTo>
                    <a:pt x="122" y="704"/>
                  </a:lnTo>
                  <a:lnTo>
                    <a:pt x="86" y="720"/>
                  </a:lnTo>
                  <a:lnTo>
                    <a:pt x="86" y="720"/>
                  </a:lnTo>
                  <a:lnTo>
                    <a:pt x="66" y="692"/>
                  </a:lnTo>
                  <a:lnTo>
                    <a:pt x="46" y="666"/>
                  </a:lnTo>
                  <a:lnTo>
                    <a:pt x="24" y="640"/>
                  </a:lnTo>
                  <a:lnTo>
                    <a:pt x="0" y="618"/>
                  </a:lnTo>
                  <a:lnTo>
                    <a:pt x="0" y="618"/>
                  </a:lnTo>
                  <a:lnTo>
                    <a:pt x="34" y="608"/>
                  </a:lnTo>
                  <a:lnTo>
                    <a:pt x="64" y="598"/>
                  </a:lnTo>
                  <a:lnTo>
                    <a:pt x="92" y="586"/>
                  </a:lnTo>
                  <a:lnTo>
                    <a:pt x="118" y="576"/>
                  </a:lnTo>
                  <a:lnTo>
                    <a:pt x="144" y="564"/>
                  </a:lnTo>
                  <a:lnTo>
                    <a:pt x="166" y="550"/>
                  </a:lnTo>
                  <a:lnTo>
                    <a:pt x="190" y="536"/>
                  </a:lnTo>
                  <a:lnTo>
                    <a:pt x="212" y="518"/>
                  </a:lnTo>
                  <a:lnTo>
                    <a:pt x="20" y="518"/>
                  </a:lnTo>
                  <a:lnTo>
                    <a:pt x="20" y="414"/>
                  </a:lnTo>
                  <a:lnTo>
                    <a:pt x="134" y="414"/>
                  </a:lnTo>
                  <a:lnTo>
                    <a:pt x="134" y="414"/>
                  </a:lnTo>
                  <a:lnTo>
                    <a:pt x="112" y="380"/>
                  </a:lnTo>
                  <a:lnTo>
                    <a:pt x="92" y="356"/>
                  </a:lnTo>
                  <a:lnTo>
                    <a:pt x="70" y="326"/>
                  </a:lnTo>
                  <a:lnTo>
                    <a:pt x="120" y="296"/>
                  </a:lnTo>
                  <a:lnTo>
                    <a:pt x="120" y="296"/>
                  </a:lnTo>
                  <a:lnTo>
                    <a:pt x="102" y="296"/>
                  </a:lnTo>
                  <a:lnTo>
                    <a:pt x="90" y="294"/>
                  </a:lnTo>
                  <a:lnTo>
                    <a:pt x="90" y="294"/>
                  </a:lnTo>
                  <a:lnTo>
                    <a:pt x="86" y="276"/>
                  </a:lnTo>
                  <a:lnTo>
                    <a:pt x="80" y="250"/>
                  </a:lnTo>
                  <a:lnTo>
                    <a:pt x="72" y="222"/>
                  </a:lnTo>
                  <a:lnTo>
                    <a:pt x="66" y="206"/>
                  </a:lnTo>
                  <a:lnTo>
                    <a:pt x="58" y="192"/>
                  </a:lnTo>
                  <a:lnTo>
                    <a:pt x="58" y="192"/>
                  </a:lnTo>
                  <a:lnTo>
                    <a:pt x="110" y="196"/>
                  </a:lnTo>
                  <a:lnTo>
                    <a:pt x="154" y="196"/>
                  </a:lnTo>
                  <a:lnTo>
                    <a:pt x="214" y="198"/>
                  </a:lnTo>
                  <a:lnTo>
                    <a:pt x="214" y="198"/>
                  </a:lnTo>
                  <a:lnTo>
                    <a:pt x="298" y="198"/>
                  </a:lnTo>
                  <a:lnTo>
                    <a:pt x="382" y="194"/>
                  </a:lnTo>
                  <a:lnTo>
                    <a:pt x="422" y="192"/>
                  </a:lnTo>
                  <a:lnTo>
                    <a:pt x="464" y="188"/>
                  </a:lnTo>
                  <a:lnTo>
                    <a:pt x="506" y="184"/>
                  </a:lnTo>
                  <a:lnTo>
                    <a:pt x="546" y="178"/>
                  </a:lnTo>
                  <a:lnTo>
                    <a:pt x="434" y="178"/>
                  </a:lnTo>
                  <a:lnTo>
                    <a:pt x="434" y="148"/>
                  </a:lnTo>
                  <a:lnTo>
                    <a:pt x="328" y="148"/>
                  </a:lnTo>
                  <a:lnTo>
                    <a:pt x="328" y="178"/>
                  </a:lnTo>
                  <a:lnTo>
                    <a:pt x="198" y="178"/>
                  </a:lnTo>
                  <a:lnTo>
                    <a:pt x="198" y="148"/>
                  </a:lnTo>
                  <a:lnTo>
                    <a:pt x="20" y="148"/>
                  </a:lnTo>
                  <a:lnTo>
                    <a:pt x="20" y="44"/>
                  </a:lnTo>
                  <a:lnTo>
                    <a:pt x="198" y="44"/>
                  </a:lnTo>
                  <a:lnTo>
                    <a:pt x="198" y="2"/>
                  </a:lnTo>
                  <a:lnTo>
                    <a:pt x="334" y="6"/>
                  </a:lnTo>
                  <a:lnTo>
                    <a:pt x="334" y="6"/>
                  </a:lnTo>
                  <a:lnTo>
                    <a:pt x="340" y="6"/>
                  </a:lnTo>
                  <a:lnTo>
                    <a:pt x="344" y="8"/>
                  </a:lnTo>
                  <a:lnTo>
                    <a:pt x="348" y="10"/>
                  </a:lnTo>
                  <a:lnTo>
                    <a:pt x="350" y="14"/>
                  </a:lnTo>
                  <a:lnTo>
                    <a:pt x="350" y="14"/>
                  </a:lnTo>
                  <a:lnTo>
                    <a:pt x="348" y="20"/>
                  </a:lnTo>
                  <a:lnTo>
                    <a:pt x="342" y="26"/>
                  </a:lnTo>
                  <a:lnTo>
                    <a:pt x="328" y="32"/>
                  </a:lnTo>
                  <a:lnTo>
                    <a:pt x="328" y="44"/>
                  </a:lnTo>
                  <a:lnTo>
                    <a:pt x="434" y="44"/>
                  </a:lnTo>
                  <a:lnTo>
                    <a:pt x="434" y="0"/>
                  </a:lnTo>
                  <a:lnTo>
                    <a:pt x="566" y="4"/>
                  </a:lnTo>
                  <a:lnTo>
                    <a:pt x="566" y="4"/>
                  </a:lnTo>
                  <a:lnTo>
                    <a:pt x="572" y="4"/>
                  </a:lnTo>
                  <a:lnTo>
                    <a:pt x="578" y="6"/>
                  </a:lnTo>
                  <a:lnTo>
                    <a:pt x="582" y="8"/>
                  </a:lnTo>
                  <a:lnTo>
                    <a:pt x="582" y="14"/>
                  </a:lnTo>
                  <a:lnTo>
                    <a:pt x="582" y="14"/>
                  </a:lnTo>
                  <a:lnTo>
                    <a:pt x="582" y="18"/>
                  </a:lnTo>
                  <a:lnTo>
                    <a:pt x="578" y="22"/>
                  </a:lnTo>
                  <a:lnTo>
                    <a:pt x="562" y="30"/>
                  </a:lnTo>
                  <a:lnTo>
                    <a:pt x="562" y="44"/>
                  </a:lnTo>
                  <a:lnTo>
                    <a:pt x="740" y="44"/>
                  </a:lnTo>
                  <a:lnTo>
                    <a:pt x="740" y="148"/>
                  </a:lnTo>
                  <a:lnTo>
                    <a:pt x="562" y="148"/>
                  </a:lnTo>
                  <a:lnTo>
                    <a:pt x="562" y="174"/>
                  </a:lnTo>
                  <a:lnTo>
                    <a:pt x="562" y="174"/>
                  </a:lnTo>
                  <a:lnTo>
                    <a:pt x="604" y="164"/>
                  </a:lnTo>
                  <a:lnTo>
                    <a:pt x="634" y="154"/>
                  </a:lnTo>
                  <a:lnTo>
                    <a:pt x="698" y="240"/>
                  </a:lnTo>
                  <a:lnTo>
                    <a:pt x="698" y="240"/>
                  </a:lnTo>
                  <a:lnTo>
                    <a:pt x="702" y="246"/>
                  </a:lnTo>
                  <a:lnTo>
                    <a:pt x="704" y="250"/>
                  </a:lnTo>
                  <a:lnTo>
                    <a:pt x="704" y="250"/>
                  </a:lnTo>
                  <a:lnTo>
                    <a:pt x="702" y="254"/>
                  </a:lnTo>
                  <a:lnTo>
                    <a:pt x="700" y="258"/>
                  </a:lnTo>
                  <a:lnTo>
                    <a:pt x="696" y="260"/>
                  </a:lnTo>
                  <a:lnTo>
                    <a:pt x="692" y="260"/>
                  </a:lnTo>
                  <a:lnTo>
                    <a:pt x="692" y="260"/>
                  </a:lnTo>
                  <a:lnTo>
                    <a:pt x="682" y="258"/>
                  </a:lnTo>
                  <a:lnTo>
                    <a:pt x="672" y="252"/>
                  </a:lnTo>
                  <a:lnTo>
                    <a:pt x="672" y="252"/>
                  </a:lnTo>
                  <a:lnTo>
                    <a:pt x="644" y="260"/>
                  </a:lnTo>
                  <a:lnTo>
                    <a:pt x="688" y="278"/>
                  </a:lnTo>
                  <a:lnTo>
                    <a:pt x="688" y="278"/>
                  </a:lnTo>
                  <a:lnTo>
                    <a:pt x="698" y="286"/>
                  </a:lnTo>
                  <a:lnTo>
                    <a:pt x="702" y="290"/>
                  </a:lnTo>
                  <a:lnTo>
                    <a:pt x="704" y="294"/>
                  </a:lnTo>
                  <a:lnTo>
                    <a:pt x="704" y="294"/>
                  </a:lnTo>
                  <a:lnTo>
                    <a:pt x="702" y="300"/>
                  </a:lnTo>
                  <a:lnTo>
                    <a:pt x="696" y="304"/>
                  </a:lnTo>
                  <a:lnTo>
                    <a:pt x="688" y="306"/>
                  </a:lnTo>
                  <a:lnTo>
                    <a:pt x="674" y="308"/>
                  </a:lnTo>
                  <a:lnTo>
                    <a:pt x="674" y="308"/>
                  </a:lnTo>
                  <a:lnTo>
                    <a:pt x="654" y="344"/>
                  </a:lnTo>
                  <a:lnTo>
                    <a:pt x="636" y="374"/>
                  </a:lnTo>
                  <a:lnTo>
                    <a:pt x="610" y="414"/>
                  </a:lnTo>
                  <a:lnTo>
                    <a:pt x="740" y="414"/>
                  </a:lnTo>
                  <a:lnTo>
                    <a:pt x="740" y="518"/>
                  </a:lnTo>
                  <a:lnTo>
                    <a:pt x="540" y="518"/>
                  </a:lnTo>
                  <a:lnTo>
                    <a:pt x="540" y="518"/>
                  </a:lnTo>
                  <a:lnTo>
                    <a:pt x="562" y="534"/>
                  </a:lnTo>
                  <a:lnTo>
                    <a:pt x="584" y="548"/>
                  </a:lnTo>
                  <a:lnTo>
                    <a:pt x="608" y="560"/>
                  </a:lnTo>
                  <a:lnTo>
                    <a:pt x="634" y="574"/>
                  </a:lnTo>
                  <a:lnTo>
                    <a:pt x="662" y="586"/>
                  </a:lnTo>
                  <a:lnTo>
                    <a:pt x="692" y="596"/>
                  </a:lnTo>
                  <a:lnTo>
                    <a:pt x="724" y="608"/>
                  </a:lnTo>
                  <a:lnTo>
                    <a:pt x="760" y="618"/>
                  </a:lnTo>
                  <a:lnTo>
                    <a:pt x="760" y="618"/>
                  </a:lnTo>
                  <a:lnTo>
                    <a:pt x="734" y="642"/>
                  </a:lnTo>
                  <a:lnTo>
                    <a:pt x="710" y="666"/>
                  </a:lnTo>
                  <a:lnTo>
                    <a:pt x="692" y="692"/>
                  </a:lnTo>
                  <a:lnTo>
                    <a:pt x="674" y="720"/>
                  </a:lnTo>
                  <a:lnTo>
                    <a:pt x="674" y="720"/>
                  </a:lnTo>
                  <a:lnTo>
                    <a:pt x="646" y="708"/>
                  </a:lnTo>
                  <a:lnTo>
                    <a:pt x="618" y="696"/>
                  </a:lnTo>
                  <a:lnTo>
                    <a:pt x="586" y="680"/>
                  </a:lnTo>
                  <a:lnTo>
                    <a:pt x="552" y="658"/>
                  </a:lnTo>
                  <a:lnTo>
                    <a:pt x="514" y="632"/>
                  </a:lnTo>
                  <a:lnTo>
                    <a:pt x="478" y="602"/>
                  </a:lnTo>
                  <a:lnTo>
                    <a:pt x="460" y="584"/>
                  </a:lnTo>
                  <a:lnTo>
                    <a:pt x="442" y="566"/>
                  </a:lnTo>
                  <a:lnTo>
                    <a:pt x="442" y="720"/>
                  </a:lnTo>
                  <a:lnTo>
                    <a:pt x="316" y="720"/>
                  </a:lnTo>
                  <a:lnTo>
                    <a:pt x="316" y="572"/>
                  </a:lnTo>
                  <a:close/>
                  <a:moveTo>
                    <a:pt x="316" y="362"/>
                  </a:moveTo>
                  <a:lnTo>
                    <a:pt x="324" y="362"/>
                  </a:lnTo>
                  <a:lnTo>
                    <a:pt x="324" y="362"/>
                  </a:lnTo>
                  <a:lnTo>
                    <a:pt x="304" y="336"/>
                  </a:lnTo>
                  <a:lnTo>
                    <a:pt x="290" y="320"/>
                  </a:lnTo>
                  <a:lnTo>
                    <a:pt x="330" y="294"/>
                  </a:lnTo>
                  <a:lnTo>
                    <a:pt x="330" y="294"/>
                  </a:lnTo>
                  <a:lnTo>
                    <a:pt x="268" y="296"/>
                  </a:lnTo>
                  <a:lnTo>
                    <a:pt x="198" y="298"/>
                  </a:lnTo>
                  <a:lnTo>
                    <a:pt x="198" y="298"/>
                  </a:lnTo>
                  <a:lnTo>
                    <a:pt x="240" y="350"/>
                  </a:lnTo>
                  <a:lnTo>
                    <a:pt x="250" y="364"/>
                  </a:lnTo>
                  <a:lnTo>
                    <a:pt x="256" y="376"/>
                  </a:lnTo>
                  <a:lnTo>
                    <a:pt x="256" y="376"/>
                  </a:lnTo>
                  <a:lnTo>
                    <a:pt x="234" y="388"/>
                  </a:lnTo>
                  <a:lnTo>
                    <a:pt x="192" y="414"/>
                  </a:lnTo>
                  <a:lnTo>
                    <a:pt x="316" y="414"/>
                  </a:lnTo>
                  <a:lnTo>
                    <a:pt x="316" y="362"/>
                  </a:lnTo>
                  <a:close/>
                  <a:moveTo>
                    <a:pt x="448" y="370"/>
                  </a:moveTo>
                  <a:lnTo>
                    <a:pt x="448" y="370"/>
                  </a:lnTo>
                  <a:lnTo>
                    <a:pt x="454" y="372"/>
                  </a:lnTo>
                  <a:lnTo>
                    <a:pt x="458" y="374"/>
                  </a:lnTo>
                  <a:lnTo>
                    <a:pt x="462" y="376"/>
                  </a:lnTo>
                  <a:lnTo>
                    <a:pt x="462" y="382"/>
                  </a:lnTo>
                  <a:lnTo>
                    <a:pt x="462" y="382"/>
                  </a:lnTo>
                  <a:lnTo>
                    <a:pt x="462" y="386"/>
                  </a:lnTo>
                  <a:lnTo>
                    <a:pt x="458" y="390"/>
                  </a:lnTo>
                  <a:lnTo>
                    <a:pt x="452" y="394"/>
                  </a:lnTo>
                  <a:lnTo>
                    <a:pt x="442" y="398"/>
                  </a:lnTo>
                  <a:lnTo>
                    <a:pt x="442" y="414"/>
                  </a:lnTo>
                  <a:lnTo>
                    <a:pt x="570" y="414"/>
                  </a:lnTo>
                  <a:lnTo>
                    <a:pt x="570" y="414"/>
                  </a:lnTo>
                  <a:lnTo>
                    <a:pt x="526" y="390"/>
                  </a:lnTo>
                  <a:lnTo>
                    <a:pt x="486" y="370"/>
                  </a:lnTo>
                  <a:lnTo>
                    <a:pt x="486" y="370"/>
                  </a:lnTo>
                  <a:lnTo>
                    <a:pt x="498" y="358"/>
                  </a:lnTo>
                  <a:lnTo>
                    <a:pt x="514" y="338"/>
                  </a:lnTo>
                  <a:lnTo>
                    <a:pt x="532" y="312"/>
                  </a:lnTo>
                  <a:lnTo>
                    <a:pt x="552" y="274"/>
                  </a:lnTo>
                  <a:lnTo>
                    <a:pt x="552" y="274"/>
                  </a:lnTo>
                  <a:lnTo>
                    <a:pt x="476" y="284"/>
                  </a:lnTo>
                  <a:lnTo>
                    <a:pt x="418" y="290"/>
                  </a:lnTo>
                  <a:lnTo>
                    <a:pt x="418" y="290"/>
                  </a:lnTo>
                  <a:lnTo>
                    <a:pt x="444" y="318"/>
                  </a:lnTo>
                  <a:lnTo>
                    <a:pt x="466" y="344"/>
                  </a:lnTo>
                  <a:lnTo>
                    <a:pt x="466" y="344"/>
                  </a:lnTo>
                  <a:lnTo>
                    <a:pt x="424" y="370"/>
                  </a:lnTo>
                  <a:lnTo>
                    <a:pt x="448" y="3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70"/>
            <p:cNvSpPr/>
            <p:nvPr/>
          </p:nvSpPr>
          <p:spPr>
            <a:xfrm>
              <a:off x="3360600" y="1050840"/>
              <a:ext cx="1066680" cy="109836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098360"/>
                <a:gd name="textAreaBottom" fmla="*/ 1098720 h 1098360"/>
              </a:gdLst>
              <a:ahLst/>
              <a:rect l="textAreaLeft" t="textAreaTop" r="textAreaRight" b="textAreaBottom"/>
              <a:pathLst>
                <a:path w="672" h="692">
                  <a:moveTo>
                    <a:pt x="414" y="8"/>
                  </a:moveTo>
                  <a:lnTo>
                    <a:pt x="414" y="8"/>
                  </a:lnTo>
                  <a:lnTo>
                    <a:pt x="422" y="8"/>
                  </a:lnTo>
                  <a:lnTo>
                    <a:pt x="430" y="10"/>
                  </a:lnTo>
                  <a:lnTo>
                    <a:pt x="434" y="14"/>
                  </a:lnTo>
                  <a:lnTo>
                    <a:pt x="436" y="20"/>
                  </a:lnTo>
                  <a:lnTo>
                    <a:pt x="436" y="20"/>
                  </a:lnTo>
                  <a:lnTo>
                    <a:pt x="434" y="24"/>
                  </a:lnTo>
                  <a:lnTo>
                    <a:pt x="432" y="26"/>
                  </a:lnTo>
                  <a:lnTo>
                    <a:pt x="428" y="32"/>
                  </a:lnTo>
                  <a:lnTo>
                    <a:pt x="414" y="36"/>
                  </a:lnTo>
                  <a:lnTo>
                    <a:pt x="414" y="36"/>
                  </a:lnTo>
                  <a:lnTo>
                    <a:pt x="414" y="126"/>
                  </a:lnTo>
                  <a:lnTo>
                    <a:pt x="672" y="126"/>
                  </a:lnTo>
                  <a:lnTo>
                    <a:pt x="672" y="126"/>
                  </a:lnTo>
                  <a:lnTo>
                    <a:pt x="670" y="242"/>
                  </a:lnTo>
                  <a:lnTo>
                    <a:pt x="664" y="360"/>
                  </a:lnTo>
                  <a:lnTo>
                    <a:pt x="660" y="416"/>
                  </a:lnTo>
                  <a:lnTo>
                    <a:pt x="656" y="468"/>
                  </a:lnTo>
                  <a:lnTo>
                    <a:pt x="650" y="512"/>
                  </a:lnTo>
                  <a:lnTo>
                    <a:pt x="642" y="550"/>
                  </a:lnTo>
                  <a:lnTo>
                    <a:pt x="642" y="550"/>
                  </a:lnTo>
                  <a:lnTo>
                    <a:pt x="634" y="570"/>
                  </a:lnTo>
                  <a:lnTo>
                    <a:pt x="626" y="590"/>
                  </a:lnTo>
                  <a:lnTo>
                    <a:pt x="616" y="606"/>
                  </a:lnTo>
                  <a:lnTo>
                    <a:pt x="606" y="622"/>
                  </a:lnTo>
                  <a:lnTo>
                    <a:pt x="594" y="634"/>
                  </a:lnTo>
                  <a:lnTo>
                    <a:pt x="580" y="646"/>
                  </a:lnTo>
                  <a:lnTo>
                    <a:pt x="566" y="656"/>
                  </a:lnTo>
                  <a:lnTo>
                    <a:pt x="550" y="664"/>
                  </a:lnTo>
                  <a:lnTo>
                    <a:pt x="534" y="670"/>
                  </a:lnTo>
                  <a:lnTo>
                    <a:pt x="516" y="676"/>
                  </a:lnTo>
                  <a:lnTo>
                    <a:pt x="498" y="680"/>
                  </a:lnTo>
                  <a:lnTo>
                    <a:pt x="478" y="682"/>
                  </a:lnTo>
                  <a:lnTo>
                    <a:pt x="436" y="686"/>
                  </a:lnTo>
                  <a:lnTo>
                    <a:pt x="392" y="686"/>
                  </a:lnTo>
                  <a:lnTo>
                    <a:pt x="392" y="686"/>
                  </a:lnTo>
                  <a:lnTo>
                    <a:pt x="386" y="638"/>
                  </a:lnTo>
                  <a:lnTo>
                    <a:pt x="376" y="594"/>
                  </a:lnTo>
                  <a:lnTo>
                    <a:pt x="366" y="558"/>
                  </a:lnTo>
                  <a:lnTo>
                    <a:pt x="360" y="536"/>
                  </a:lnTo>
                  <a:lnTo>
                    <a:pt x="360" y="536"/>
                  </a:lnTo>
                  <a:lnTo>
                    <a:pt x="384" y="542"/>
                  </a:lnTo>
                  <a:lnTo>
                    <a:pt x="398" y="544"/>
                  </a:lnTo>
                  <a:lnTo>
                    <a:pt x="418" y="544"/>
                  </a:lnTo>
                  <a:lnTo>
                    <a:pt x="418" y="544"/>
                  </a:lnTo>
                  <a:lnTo>
                    <a:pt x="440" y="544"/>
                  </a:lnTo>
                  <a:lnTo>
                    <a:pt x="456" y="540"/>
                  </a:lnTo>
                  <a:lnTo>
                    <a:pt x="470" y="536"/>
                  </a:lnTo>
                  <a:lnTo>
                    <a:pt x="482" y="530"/>
                  </a:lnTo>
                  <a:lnTo>
                    <a:pt x="490" y="522"/>
                  </a:lnTo>
                  <a:lnTo>
                    <a:pt x="498" y="510"/>
                  </a:lnTo>
                  <a:lnTo>
                    <a:pt x="502" y="496"/>
                  </a:lnTo>
                  <a:lnTo>
                    <a:pt x="506" y="476"/>
                  </a:lnTo>
                  <a:lnTo>
                    <a:pt x="506" y="476"/>
                  </a:lnTo>
                  <a:lnTo>
                    <a:pt x="514" y="436"/>
                  </a:lnTo>
                  <a:lnTo>
                    <a:pt x="518" y="380"/>
                  </a:lnTo>
                  <a:lnTo>
                    <a:pt x="522" y="320"/>
                  </a:lnTo>
                  <a:lnTo>
                    <a:pt x="524" y="264"/>
                  </a:lnTo>
                  <a:lnTo>
                    <a:pt x="404" y="264"/>
                  </a:lnTo>
                  <a:lnTo>
                    <a:pt x="404" y="264"/>
                  </a:lnTo>
                  <a:lnTo>
                    <a:pt x="398" y="300"/>
                  </a:lnTo>
                  <a:lnTo>
                    <a:pt x="390" y="336"/>
                  </a:lnTo>
                  <a:lnTo>
                    <a:pt x="380" y="370"/>
                  </a:lnTo>
                  <a:lnTo>
                    <a:pt x="370" y="404"/>
                  </a:lnTo>
                  <a:lnTo>
                    <a:pt x="356" y="436"/>
                  </a:lnTo>
                  <a:lnTo>
                    <a:pt x="340" y="466"/>
                  </a:lnTo>
                  <a:lnTo>
                    <a:pt x="324" y="496"/>
                  </a:lnTo>
                  <a:lnTo>
                    <a:pt x="306" y="524"/>
                  </a:lnTo>
                  <a:lnTo>
                    <a:pt x="286" y="550"/>
                  </a:lnTo>
                  <a:lnTo>
                    <a:pt x="266" y="574"/>
                  </a:lnTo>
                  <a:lnTo>
                    <a:pt x="242" y="598"/>
                  </a:lnTo>
                  <a:lnTo>
                    <a:pt x="218" y="620"/>
                  </a:lnTo>
                  <a:lnTo>
                    <a:pt x="194" y="640"/>
                  </a:lnTo>
                  <a:lnTo>
                    <a:pt x="166" y="660"/>
                  </a:lnTo>
                  <a:lnTo>
                    <a:pt x="138" y="676"/>
                  </a:lnTo>
                  <a:lnTo>
                    <a:pt x="110" y="692"/>
                  </a:lnTo>
                  <a:lnTo>
                    <a:pt x="110" y="692"/>
                  </a:lnTo>
                  <a:lnTo>
                    <a:pt x="86" y="664"/>
                  </a:lnTo>
                  <a:lnTo>
                    <a:pt x="58" y="634"/>
                  </a:lnTo>
                  <a:lnTo>
                    <a:pt x="26" y="606"/>
                  </a:lnTo>
                  <a:lnTo>
                    <a:pt x="0" y="584"/>
                  </a:lnTo>
                  <a:lnTo>
                    <a:pt x="0" y="584"/>
                  </a:lnTo>
                  <a:lnTo>
                    <a:pt x="34" y="566"/>
                  </a:lnTo>
                  <a:lnTo>
                    <a:pt x="66" y="548"/>
                  </a:lnTo>
                  <a:lnTo>
                    <a:pt x="94" y="530"/>
                  </a:lnTo>
                  <a:lnTo>
                    <a:pt x="118" y="512"/>
                  </a:lnTo>
                  <a:lnTo>
                    <a:pt x="140" y="492"/>
                  </a:lnTo>
                  <a:lnTo>
                    <a:pt x="160" y="474"/>
                  </a:lnTo>
                  <a:lnTo>
                    <a:pt x="178" y="454"/>
                  </a:lnTo>
                  <a:lnTo>
                    <a:pt x="192" y="432"/>
                  </a:lnTo>
                  <a:lnTo>
                    <a:pt x="206" y="412"/>
                  </a:lnTo>
                  <a:lnTo>
                    <a:pt x="216" y="392"/>
                  </a:lnTo>
                  <a:lnTo>
                    <a:pt x="226" y="370"/>
                  </a:lnTo>
                  <a:lnTo>
                    <a:pt x="234" y="350"/>
                  </a:lnTo>
                  <a:lnTo>
                    <a:pt x="246" y="306"/>
                  </a:lnTo>
                  <a:lnTo>
                    <a:pt x="254" y="264"/>
                  </a:lnTo>
                  <a:lnTo>
                    <a:pt x="34" y="264"/>
                  </a:lnTo>
                  <a:lnTo>
                    <a:pt x="34" y="126"/>
                  </a:lnTo>
                  <a:lnTo>
                    <a:pt x="268" y="126"/>
                  </a:lnTo>
                  <a:lnTo>
                    <a:pt x="268" y="126"/>
                  </a:lnTo>
                  <a:lnTo>
                    <a:pt x="268" y="82"/>
                  </a:lnTo>
                  <a:lnTo>
                    <a:pt x="266" y="46"/>
                  </a:lnTo>
                  <a:lnTo>
                    <a:pt x="262" y="0"/>
                  </a:lnTo>
                  <a:lnTo>
                    <a:pt x="4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71"/>
            <p:cNvSpPr/>
            <p:nvPr/>
          </p:nvSpPr>
          <p:spPr>
            <a:xfrm>
              <a:off x="4754520" y="1082520"/>
              <a:ext cx="977760" cy="10443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616" h="658">
                  <a:moveTo>
                    <a:pt x="154" y="6"/>
                  </a:moveTo>
                  <a:lnTo>
                    <a:pt x="154" y="6"/>
                  </a:lnTo>
                  <a:lnTo>
                    <a:pt x="160" y="6"/>
                  </a:lnTo>
                  <a:lnTo>
                    <a:pt x="166" y="8"/>
                  </a:lnTo>
                  <a:lnTo>
                    <a:pt x="170" y="12"/>
                  </a:lnTo>
                  <a:lnTo>
                    <a:pt x="172" y="18"/>
                  </a:lnTo>
                  <a:lnTo>
                    <a:pt x="172" y="18"/>
                  </a:lnTo>
                  <a:lnTo>
                    <a:pt x="170" y="24"/>
                  </a:lnTo>
                  <a:lnTo>
                    <a:pt x="166" y="28"/>
                  </a:lnTo>
                  <a:lnTo>
                    <a:pt x="154" y="36"/>
                  </a:lnTo>
                  <a:lnTo>
                    <a:pt x="154" y="466"/>
                  </a:lnTo>
                  <a:lnTo>
                    <a:pt x="154" y="466"/>
                  </a:lnTo>
                  <a:lnTo>
                    <a:pt x="182" y="456"/>
                  </a:lnTo>
                  <a:lnTo>
                    <a:pt x="212" y="444"/>
                  </a:lnTo>
                  <a:lnTo>
                    <a:pt x="240" y="432"/>
                  </a:lnTo>
                  <a:lnTo>
                    <a:pt x="268" y="416"/>
                  </a:lnTo>
                  <a:lnTo>
                    <a:pt x="296" y="400"/>
                  </a:lnTo>
                  <a:lnTo>
                    <a:pt x="324" y="382"/>
                  </a:lnTo>
                  <a:lnTo>
                    <a:pt x="380" y="344"/>
                  </a:lnTo>
                  <a:lnTo>
                    <a:pt x="430" y="302"/>
                  </a:lnTo>
                  <a:lnTo>
                    <a:pt x="476" y="260"/>
                  </a:lnTo>
                  <a:lnTo>
                    <a:pt x="516" y="220"/>
                  </a:lnTo>
                  <a:lnTo>
                    <a:pt x="550" y="180"/>
                  </a:lnTo>
                  <a:lnTo>
                    <a:pt x="550" y="180"/>
                  </a:lnTo>
                  <a:lnTo>
                    <a:pt x="576" y="244"/>
                  </a:lnTo>
                  <a:lnTo>
                    <a:pt x="594" y="282"/>
                  </a:lnTo>
                  <a:lnTo>
                    <a:pt x="616" y="324"/>
                  </a:lnTo>
                  <a:lnTo>
                    <a:pt x="616" y="324"/>
                  </a:lnTo>
                  <a:lnTo>
                    <a:pt x="590" y="352"/>
                  </a:lnTo>
                  <a:lnTo>
                    <a:pt x="562" y="378"/>
                  </a:lnTo>
                  <a:lnTo>
                    <a:pt x="534" y="404"/>
                  </a:lnTo>
                  <a:lnTo>
                    <a:pt x="506" y="426"/>
                  </a:lnTo>
                  <a:lnTo>
                    <a:pt x="452" y="468"/>
                  </a:lnTo>
                  <a:lnTo>
                    <a:pt x="400" y="504"/>
                  </a:lnTo>
                  <a:lnTo>
                    <a:pt x="348" y="534"/>
                  </a:lnTo>
                  <a:lnTo>
                    <a:pt x="302" y="560"/>
                  </a:lnTo>
                  <a:lnTo>
                    <a:pt x="260" y="582"/>
                  </a:lnTo>
                  <a:lnTo>
                    <a:pt x="224" y="600"/>
                  </a:lnTo>
                  <a:lnTo>
                    <a:pt x="224" y="600"/>
                  </a:lnTo>
                  <a:lnTo>
                    <a:pt x="94" y="658"/>
                  </a:lnTo>
                  <a:lnTo>
                    <a:pt x="0" y="566"/>
                  </a:lnTo>
                  <a:lnTo>
                    <a:pt x="0" y="566"/>
                  </a:lnTo>
                  <a:lnTo>
                    <a:pt x="4" y="544"/>
                  </a:lnTo>
                  <a:lnTo>
                    <a:pt x="4" y="524"/>
                  </a:lnTo>
                  <a:lnTo>
                    <a:pt x="4" y="0"/>
                  </a:lnTo>
                  <a:lnTo>
                    <a:pt x="15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72"/>
            <p:cNvSpPr/>
            <p:nvPr/>
          </p:nvSpPr>
          <p:spPr>
            <a:xfrm>
              <a:off x="5859720" y="1492200"/>
              <a:ext cx="1079280" cy="22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Line 73"/>
          <p:cNvSpPr/>
          <p:nvPr/>
        </p:nvSpPr>
        <p:spPr>
          <a:xfrm>
            <a:off x="4710240" y="2593800"/>
            <a:ext cx="1440" cy="1171800"/>
          </a:xfrm>
          <a:prstGeom prst="line">
            <a:avLst/>
          </a:prstGeom>
          <a:ln w="85680">
            <a:solidFill>
              <a:srgbClr val="593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17"/>
          <p:cNvSpPr/>
          <p:nvPr/>
        </p:nvSpPr>
        <p:spPr>
          <a:xfrm>
            <a:off x="4586400" y="2538360"/>
            <a:ext cx="9223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･軽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･並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･大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･特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18"/>
          <p:cNvSpPr/>
          <p:nvPr/>
        </p:nvSpPr>
        <p:spPr>
          <a:xfrm>
            <a:off x="5292720" y="2538360"/>
            <a:ext cx="8636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20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60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50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50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19"/>
          <p:cNvSpPr/>
          <p:nvPr/>
        </p:nvSpPr>
        <p:spPr>
          <a:xfrm>
            <a:off x="6084720" y="2538360"/>
            <a:ext cx="10033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0kc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50kc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00kc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00kc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7:42:55Z</dcterms:created>
  <dc:creator>seisaku</dc:creator>
  <dc:description/>
  <dc:language>en-US</dc:language>
  <cp:lastModifiedBy>seisaku</cp:lastModifiedBy>
  <dcterms:modified xsi:type="dcterms:W3CDTF">2012-05-15T07:47:12Z</dcterms:modified>
  <cp:revision>1</cp:revision>
  <dc:subject/>
  <dc:title>スライド 1</dc:title>
</cp:coreProperties>
</file>